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C0C-2C8E-495C-8187-81A43747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0748-2E5D-46EF-B8EA-305B4B5A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F24-FA9F-46D3-815B-25A0FC6D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5F4C-8814-4784-AD35-9FA1AAA5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A213-AFD2-405E-B1BA-95479EDB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D714-3FAB-4463-AC03-BD26711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17C9-6B45-404B-9CBB-3B396C8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52C3-D41B-4778-B73A-FF2FF3F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BA6C-5E8E-44AE-8B6A-70000975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5B4-618B-40C3-872F-6B53856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C22E-E240-4391-801F-349E788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E74-5CC5-431D-84C1-11B14DB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93E5-1BD4-496F-8EF7-7D0C261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6CBB-ABB2-481F-B56E-B527118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36B-D7C7-442E-9F48-8D9ACBDB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5669-8D6E-4F1D-BC08-FA8FD6F4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9B80-2A3E-412F-8124-1F72B3B2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60C2-7AA2-4C66-AC59-E6175176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7B92-DEE5-4D8C-AD02-3BCFBA9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666-90C2-46D5-8AEB-F863C239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D45-E1FA-4D77-BA95-1FE2BB85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C0B-4332-4FA7-9D7C-1FE333E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FAE-09F3-4C8B-B4F2-E3D15E35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9FD-F2C1-4CAA-A764-CA557838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3BBC-D29F-4AB9-BEAF-DF061B22AC8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575C-75AC-4BD1-A63C-89395CF7DCA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ÇOCUKLARIN KULLANDIĞI EŞYANIN “TEMİZLİK VE DÜZENİ” NE ÖNEM VERMELİYİZ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000" spc="-1" strike="noStrike" u="sng">
                <a:solidFill>
                  <a:srgbClr val="fffdf7"/>
                </a:solidFill>
                <a:uFillTx/>
                <a:latin typeface="Arial"/>
              </a:rPr>
              <a:t>ÇOCUĞU SEVGİ DEĞİL, TUTARSIZ DAVRANIŞLARIMIZ ŞIMARTI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OPLANTIYA KATILDIĞINIZ İÇİN HEPİNİZE TEŞEKKÜR EDERİM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ÇOCUKLARIMIZA KULLANDIĞI DEFTER, SİLGİ, KALEM, GİYSİ VE AYAKKABI GİBİ EŞYALARINI TEMİZ TUTMA VE İYİ KULLANMA ALIŞKANLIĞI VERMELİYİZ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AİLEDE ANNE VE BABA, ÇOCUKLARIN YANINDA, AŞIRI DERECEDE TARTIŞMA HAVASI İÇİNE GİRMEMELİDİ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ffdf7"/>
                </a:solidFill>
                <a:latin typeface="Arial"/>
              </a:rPr>
              <a:t>ANNE VE BABANIN YALNIZ BİRİNİN OKUL KONUSUNDA DESTEK VERMESİ YETERLİ DEĞİLDİR. DESTEĞİN HER İKİSİ TARAFINDAN VERİLMESİ GEREKİ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2f1311"/>
                </a:solidFill>
                <a:latin typeface="Arial"/>
              </a:rPr>
              <a:t>BAŞARI HEMEN OLMAZ. BU KONUDA SABIRLI OLMALI VE ÇOCUĞUMUZUN DÜZENLİ ÇALIŞMASINA ÖZEN GÖSTERMELİYİZ. UNUTMAYALIM Kİ; BAŞARININ  ANAHTARI DÜZENLİ ÇALIŞMAKTI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79af7d"/>
                </a:solidFill>
                <a:latin typeface="Arial"/>
              </a:rPr>
              <a:t>UYKU DÜZENİ ÖĞRENCİ BAŞARISINI YAKINDAN ETKİLER. BU SEBEPLE  ÇOCUĞUMUZUN HER ZAMAN AYNI SAATTE YATMASINA ÖZEN GÖSTERMELİYİZ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GÖRME VE İŞİTME PROBLEMLERİ KONUSUNDA ÖĞRETMEN BİLGİLENDİRİLMELİDİ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ffdf7"/>
                </a:solidFill>
                <a:latin typeface="Arial"/>
              </a:rPr>
              <a:t>ÇOCUKLARA AİLEDE SÖZ HAKKI VERİLMELİ, DÜŞÜNCELERİNİ SERBESTÇE İFADE ETMELERİ SAĞLANMALIDIR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ÇOCUĞA İLK GÜVEN DUYGUSU ANNE TARAFINDAN VERİLMEKTEDİR. ONUN İÇİN ÇOCUK SEVİLDİĞİNDEN EMİN OLMAK İSTER. ÇOCUKLARINIZI SEVİNİZ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9:08:02Z</dcterms:created>
  <dc:creator>***METHİ***</dc:creator>
  <dc:description/>
  <dc:language>en-US</dc:language>
  <cp:lastModifiedBy>www.ihsandurak.com</cp:lastModifiedBy>
  <dcterms:modified xsi:type="dcterms:W3CDTF">2009-02-08T16:26:53Z</dcterms:modified>
  <cp:revision>45</cp:revision>
  <dc:subject/>
  <dc:title>Slayt 1</dc:title>
</cp:coreProperties>
</file>