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CE1-546C-49BA-B4CF-135226AF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537-5708-4926-B3A0-189A79E9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829-9068-43C3-AFAC-30CD4CB3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8C4-F420-45A5-AE5C-71D6DD81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021-B4E9-47F8-9854-79D14CAB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588-69D9-408C-9210-CB347005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348-9DE7-4BB9-92ED-0E2A075F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55A-8F74-4530-A777-1F4EF321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75A-496E-49BC-AF4F-A1200FEE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0ED-1234-4825-83C8-2FFB2B6E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CD3-C03F-4669-9F88-4B828E3D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0F7-ACCA-406E-9E6F-84E6E24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51DF-A961-4E5E-993E-2EC20A917621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33520"/>
            <a:ext cx="8382240" cy="441936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1523880"/>
            <a:ext cx="617220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ÇIKARMA İŞLEM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2320" y="-3240"/>
            <a:ext cx="894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Times New Roman"/>
              </a:rPr>
              <a:t>3- </a:t>
            </a: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Bir sayıdan </a:t>
            </a:r>
            <a:r>
              <a:rPr b="1" lang="tr-TR" sz="4000" spc="-1" strike="noStrike">
                <a:solidFill>
                  <a:srgbClr val="ff0000"/>
                </a:solidFill>
                <a:latin typeface="Times New Roman"/>
              </a:rPr>
              <a:t>0 (sıfır)</a:t>
            </a: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 çıkarılırsa yine 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Sayının kendisi elde edilir.Sayı değişme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4040" y="1366920"/>
            <a:ext cx="5752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3 – 0 =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5 – 0 =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9 – 0 = 1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3520" y="149400"/>
            <a:ext cx="832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Times New Roman"/>
              </a:rPr>
              <a:t>4- </a:t>
            </a: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Bir sayıdan kendisi çıkarılırsa f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(kalan) daima 0 (sıfır) ol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9000" y="1295280"/>
            <a:ext cx="5752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8 – 8 = 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7 – 17 = 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82 – 82 = 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ÇIKARMA İŞLEMİNDE SAĞL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920" y="1066680"/>
            <a:ext cx="170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7600" y="2362320"/>
            <a:ext cx="170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886200"/>
            <a:ext cx="27432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581280"/>
            <a:ext cx="45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1219320"/>
            <a:ext cx="0" cy="312408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832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295280"/>
            <a:ext cx="0" cy="3124440"/>
          </a:xfrm>
          <a:prstGeom prst="line">
            <a:avLst/>
          </a:prstGeom>
          <a:ln w="127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92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3800" y="1066680"/>
            <a:ext cx="170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3800" y="2057400"/>
            <a:ext cx="170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962520"/>
            <a:ext cx="3047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36576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1371600"/>
            <a:ext cx="0" cy="2895480"/>
          </a:xfrm>
          <a:prstGeom prst="line">
            <a:avLst/>
          </a:prstGeom>
          <a:ln w="12708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188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1447920"/>
            <a:ext cx="0" cy="2895480"/>
          </a:xfrm>
          <a:prstGeom prst="line">
            <a:avLst/>
          </a:prstGeom>
          <a:ln w="12708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748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080" y="5357880"/>
            <a:ext cx="837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Hangi işlem doğru kontrol edel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038480"/>
            <a:ext cx="160020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 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666880"/>
            <a:ext cx="160020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2767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3200400"/>
            <a:ext cx="380880" cy="1447920"/>
          </a:xfrm>
          <a:prstGeom prst="upDownArrow">
            <a:avLst>
              <a:gd name="adj1" fmla="val 50000"/>
              <a:gd name="adj2" fmla="val 7567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295280"/>
            <a:ext cx="16002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 8 </a:t>
            </a: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olmal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29528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57400" y="2209320"/>
            <a:ext cx="0" cy="259092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8320" y="1066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143000" y="2209680"/>
            <a:ext cx="0" cy="236232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9880" y="1066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29528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143000"/>
            <a:ext cx="2590920" cy="396252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-360" y="1219320"/>
            <a:ext cx="3048120" cy="396216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0" y="190512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YANLI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038480"/>
            <a:ext cx="1676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2438280"/>
            <a:ext cx="15242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3352680"/>
            <a:ext cx="0" cy="609840"/>
          </a:xfrm>
          <a:prstGeom prst="line">
            <a:avLst/>
          </a:prstGeom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5" idx="3"/>
            <a:endCxn id="186" idx="3"/>
          </p:cNvCxnSpPr>
          <p:nvPr/>
        </p:nvCxnSpPr>
        <p:spPr>
          <a:xfrm flipV="1">
            <a:off x="6248520" y="2971080"/>
            <a:ext cx="2160" cy="1677240"/>
          </a:xfrm>
          <a:prstGeom prst="curvedConnector5">
            <a:avLst>
              <a:gd name="adj1" fmla="val 116000000"/>
              <a:gd name="adj2" fmla="val 50000"/>
              <a:gd name="adj3" fmla="val 116000000"/>
            </a:avLst>
          </a:prstGeom>
          <a:ln w="92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4648320" y="1371600"/>
            <a:ext cx="1752480" cy="9907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 8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1371600"/>
            <a:ext cx="17524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867280" y="2209680"/>
            <a:ext cx="76320" cy="274320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64520" y="1066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952880" y="2285640"/>
            <a:ext cx="76320" cy="251460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50120" y="11430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1371600"/>
            <a:ext cx="18288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2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7240" y="2509920"/>
            <a:ext cx="471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3333cc"/>
                </a:solidFill>
                <a:latin typeface="Times New Roman"/>
              </a:rPr>
              <a:t>DOĞR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ONLUK BOZARAK ÇIKA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1840" y="1809720"/>
            <a:ext cx="901224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</a:rPr>
              <a:t>23 tane bilyem var. 5 tane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</a:rPr>
              <a:t>sini arkadaşıma verdim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</a:rPr>
              <a:t>Kaç bilyem kalır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Times New Roman"/>
              </a:rPr>
              <a:t>NOT: </a:t>
            </a: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Bilyeler azaldığı için, bu iş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Çıkarma işlemidir.Büyük sayıdan küçü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Sayı çıkarılarak yapılı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Times New Roman"/>
              </a:rPr>
              <a:t>İşlemi şekille yapalı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BD14866_" descr=""/>
          <p:cNvPicPr/>
          <p:nvPr/>
        </p:nvPicPr>
        <p:blipFill>
          <a:blip r:embed="rId1"/>
          <a:stretch/>
        </p:blipFill>
        <p:spPr>
          <a:xfrm>
            <a:off x="0" y="20574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495680" y="990720"/>
            <a:ext cx="0" cy="4419360"/>
          </a:xfrm>
          <a:prstGeom prst="line">
            <a:avLst/>
          </a:prstGeom>
          <a:ln w="127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905120"/>
            <a:ext cx="746748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7640" y="914400"/>
            <a:ext cx="200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9900ff"/>
                </a:solidFill>
                <a:latin typeface="Times New Roman"/>
              </a:rPr>
              <a:t>birli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2880" y="91440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9900ff"/>
                </a:solidFill>
                <a:latin typeface="Times New Roman"/>
              </a:rPr>
              <a:t>onlu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BD14866_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BD14866_" descr=""/>
          <p:cNvPicPr/>
          <p:nvPr/>
        </p:nvPicPr>
        <p:blipFill>
          <a:blip r:embed="rId3"/>
          <a:stretch/>
        </p:blipFill>
        <p:spPr>
          <a:xfrm>
            <a:off x="762120" y="2057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BD14866_" descr=""/>
          <p:cNvPicPr/>
          <p:nvPr/>
        </p:nvPicPr>
        <p:blipFill>
          <a:blip r:embed="rId4"/>
          <a:stretch/>
        </p:blipFill>
        <p:spPr>
          <a:xfrm>
            <a:off x="1219320" y="2057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BD14866_" descr=""/>
          <p:cNvPicPr/>
          <p:nvPr/>
        </p:nvPicPr>
        <p:blipFill>
          <a:blip r:embed="rId5"/>
          <a:stretch/>
        </p:blipFill>
        <p:spPr>
          <a:xfrm>
            <a:off x="1676520" y="2057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09" name="BD14866_" descr=""/>
          <p:cNvPicPr/>
          <p:nvPr/>
        </p:nvPicPr>
        <p:blipFill>
          <a:blip r:embed="rId6"/>
          <a:stretch/>
        </p:blipFill>
        <p:spPr>
          <a:xfrm>
            <a:off x="205740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10" name="BD14866_" descr=""/>
          <p:cNvPicPr/>
          <p:nvPr/>
        </p:nvPicPr>
        <p:blipFill>
          <a:blip r:embed="rId7"/>
          <a:stretch/>
        </p:blipFill>
        <p:spPr>
          <a:xfrm>
            <a:off x="251460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11" name="BD14866_" descr=""/>
          <p:cNvPicPr/>
          <p:nvPr/>
        </p:nvPicPr>
        <p:blipFill>
          <a:blip r:embed="rId8"/>
          <a:stretch/>
        </p:blipFill>
        <p:spPr>
          <a:xfrm>
            <a:off x="297180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12" name="BD14866_" descr=""/>
          <p:cNvPicPr/>
          <p:nvPr/>
        </p:nvPicPr>
        <p:blipFill>
          <a:blip r:embed="rId9"/>
          <a:stretch/>
        </p:blipFill>
        <p:spPr>
          <a:xfrm>
            <a:off x="3429000" y="2057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13" name="BD14866_" descr=""/>
          <p:cNvPicPr/>
          <p:nvPr/>
        </p:nvPicPr>
        <p:blipFill>
          <a:blip r:embed="rId10"/>
          <a:stretch/>
        </p:blipFill>
        <p:spPr>
          <a:xfrm>
            <a:off x="3886200" y="20574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2133720"/>
            <a:ext cx="4343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ff"/>
                </a:solidFill>
                <a:latin typeface="Times New Roman"/>
              </a:rPr>
              <a:t>1 ONL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D14866_" descr=""/>
          <p:cNvPicPr/>
          <p:nvPr/>
        </p:nvPicPr>
        <p:blipFill>
          <a:blip r:embed="rId11"/>
          <a:stretch/>
        </p:blipFill>
        <p:spPr>
          <a:xfrm>
            <a:off x="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16" name="BD14866_" descr=""/>
          <p:cNvPicPr/>
          <p:nvPr/>
        </p:nvPicPr>
        <p:blipFill>
          <a:blip r:embed="rId12"/>
          <a:stretch/>
        </p:blipFill>
        <p:spPr>
          <a:xfrm>
            <a:off x="45720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17" name="BD14866_" descr=""/>
          <p:cNvPicPr/>
          <p:nvPr/>
        </p:nvPicPr>
        <p:blipFill>
          <a:blip r:embed="rId13"/>
          <a:stretch/>
        </p:blipFill>
        <p:spPr>
          <a:xfrm>
            <a:off x="83808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18" name="BD14866_" descr=""/>
          <p:cNvPicPr/>
          <p:nvPr/>
        </p:nvPicPr>
        <p:blipFill>
          <a:blip r:embed="rId14"/>
          <a:stretch/>
        </p:blipFill>
        <p:spPr>
          <a:xfrm>
            <a:off x="1219320" y="2666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9" name="BD14866_" descr=""/>
          <p:cNvPicPr/>
          <p:nvPr/>
        </p:nvPicPr>
        <p:blipFill>
          <a:blip r:embed="rId15"/>
          <a:stretch/>
        </p:blipFill>
        <p:spPr>
          <a:xfrm>
            <a:off x="160020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0" name="BD14866_" descr=""/>
          <p:cNvPicPr/>
          <p:nvPr/>
        </p:nvPicPr>
        <p:blipFill>
          <a:blip r:embed="rId16"/>
          <a:stretch/>
        </p:blipFill>
        <p:spPr>
          <a:xfrm>
            <a:off x="205740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1" name="BD14866_" descr=""/>
          <p:cNvPicPr/>
          <p:nvPr/>
        </p:nvPicPr>
        <p:blipFill>
          <a:blip r:embed="rId17"/>
          <a:stretch/>
        </p:blipFill>
        <p:spPr>
          <a:xfrm>
            <a:off x="251460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BD14866_" descr=""/>
          <p:cNvPicPr/>
          <p:nvPr/>
        </p:nvPicPr>
        <p:blipFill>
          <a:blip r:embed="rId18"/>
          <a:stretch/>
        </p:blipFill>
        <p:spPr>
          <a:xfrm>
            <a:off x="289548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3" name="BD14866_" descr=""/>
          <p:cNvPicPr/>
          <p:nvPr/>
        </p:nvPicPr>
        <p:blipFill>
          <a:blip r:embed="rId19"/>
          <a:stretch/>
        </p:blipFill>
        <p:spPr>
          <a:xfrm>
            <a:off x="3276720" y="2666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24" name="BD14866_" descr=""/>
          <p:cNvPicPr/>
          <p:nvPr/>
        </p:nvPicPr>
        <p:blipFill>
          <a:blip r:embed="rId20"/>
          <a:stretch/>
        </p:blipFill>
        <p:spPr>
          <a:xfrm>
            <a:off x="380988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5" name="BD14866_" descr=""/>
          <p:cNvPicPr/>
          <p:nvPr/>
        </p:nvPicPr>
        <p:blipFill>
          <a:blip r:embed="rId21"/>
          <a:stretch/>
        </p:blipFill>
        <p:spPr>
          <a:xfrm>
            <a:off x="495288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6" name="BD14866_" descr=""/>
          <p:cNvPicPr/>
          <p:nvPr/>
        </p:nvPicPr>
        <p:blipFill>
          <a:blip r:embed="rId22"/>
          <a:stretch/>
        </p:blipFill>
        <p:spPr>
          <a:xfrm>
            <a:off x="5486400" y="2666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7" name="BD14866_" descr=""/>
          <p:cNvPicPr/>
          <p:nvPr/>
        </p:nvPicPr>
        <p:blipFill>
          <a:blip r:embed="rId23"/>
          <a:stretch/>
        </p:blipFill>
        <p:spPr>
          <a:xfrm>
            <a:off x="6019920" y="2666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3581280"/>
            <a:ext cx="792504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BD14866_" descr=""/>
          <p:cNvPicPr/>
          <p:nvPr/>
        </p:nvPicPr>
        <p:blipFill>
          <a:blip r:embed="rId24"/>
          <a:stretch/>
        </p:blipFill>
        <p:spPr>
          <a:xfrm>
            <a:off x="49528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BD14866_" descr=""/>
          <p:cNvPicPr/>
          <p:nvPr/>
        </p:nvPicPr>
        <p:blipFill>
          <a:blip r:embed="rId25"/>
          <a:stretch/>
        </p:blipFill>
        <p:spPr>
          <a:xfrm>
            <a:off x="5486400" y="3809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BD14866_" descr=""/>
          <p:cNvPicPr/>
          <p:nvPr/>
        </p:nvPicPr>
        <p:blipFill>
          <a:blip r:embed="rId26"/>
          <a:stretch/>
        </p:blipFill>
        <p:spPr>
          <a:xfrm>
            <a:off x="60958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2" name="BD14866_" descr=""/>
          <p:cNvPicPr/>
          <p:nvPr/>
        </p:nvPicPr>
        <p:blipFill>
          <a:blip r:embed="rId27"/>
          <a:stretch/>
        </p:blipFill>
        <p:spPr>
          <a:xfrm>
            <a:off x="6705720" y="3809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33" name="BD14866_" descr=""/>
          <p:cNvPicPr/>
          <p:nvPr/>
        </p:nvPicPr>
        <p:blipFill>
          <a:blip r:embed="rId28"/>
          <a:stretch/>
        </p:blipFill>
        <p:spPr>
          <a:xfrm>
            <a:off x="7315200" y="3809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1981080"/>
            <a:ext cx="441972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D14866_" descr=""/>
          <p:cNvPicPr/>
          <p:nvPr/>
        </p:nvPicPr>
        <p:blipFill>
          <a:blip r:embed="rId29"/>
          <a:stretch/>
        </p:blipFill>
        <p:spPr>
          <a:xfrm>
            <a:off x="4572000" y="1981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36" name="BD14866_" descr=""/>
          <p:cNvPicPr/>
          <p:nvPr/>
        </p:nvPicPr>
        <p:blipFill>
          <a:blip r:embed="rId30"/>
          <a:stretch/>
        </p:blipFill>
        <p:spPr>
          <a:xfrm>
            <a:off x="5029200" y="1981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BD14866_" descr=""/>
          <p:cNvPicPr/>
          <p:nvPr/>
        </p:nvPicPr>
        <p:blipFill>
          <a:blip r:embed="rId31"/>
          <a:stretch/>
        </p:blipFill>
        <p:spPr>
          <a:xfrm>
            <a:off x="5486400" y="1981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38" name="BD14866_" descr=""/>
          <p:cNvPicPr/>
          <p:nvPr/>
        </p:nvPicPr>
        <p:blipFill>
          <a:blip r:embed="rId32"/>
          <a:stretch/>
        </p:blipFill>
        <p:spPr>
          <a:xfrm>
            <a:off x="5867280" y="1981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39" name="BD14866_" descr=""/>
          <p:cNvPicPr/>
          <p:nvPr/>
        </p:nvPicPr>
        <p:blipFill>
          <a:blip r:embed="rId33"/>
          <a:stretch/>
        </p:blipFill>
        <p:spPr>
          <a:xfrm>
            <a:off x="6324480" y="1981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40" name="BD14866_" descr=""/>
          <p:cNvPicPr/>
          <p:nvPr/>
        </p:nvPicPr>
        <p:blipFill>
          <a:blip r:embed="rId34"/>
          <a:stretch/>
        </p:blipFill>
        <p:spPr>
          <a:xfrm>
            <a:off x="6705720" y="19810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41" name="BD14866_" descr=""/>
          <p:cNvPicPr/>
          <p:nvPr/>
        </p:nvPicPr>
        <p:blipFill>
          <a:blip r:embed="rId35"/>
          <a:stretch/>
        </p:blipFill>
        <p:spPr>
          <a:xfrm>
            <a:off x="7162920" y="19810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42" name="BD14866_" descr=""/>
          <p:cNvPicPr/>
          <p:nvPr/>
        </p:nvPicPr>
        <p:blipFill>
          <a:blip r:embed="rId36"/>
          <a:stretch/>
        </p:blipFill>
        <p:spPr>
          <a:xfrm>
            <a:off x="7543800" y="1981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43" name="BD14866_" descr=""/>
          <p:cNvPicPr/>
          <p:nvPr/>
        </p:nvPicPr>
        <p:blipFill>
          <a:blip r:embed="rId37"/>
          <a:stretch/>
        </p:blipFill>
        <p:spPr>
          <a:xfrm>
            <a:off x="8153280" y="1981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44" name="BD14866_" descr=""/>
          <p:cNvPicPr/>
          <p:nvPr/>
        </p:nvPicPr>
        <p:blipFill>
          <a:blip r:embed="rId38"/>
          <a:stretch/>
        </p:blipFill>
        <p:spPr>
          <a:xfrm>
            <a:off x="8610480" y="19810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4920" y="5105520"/>
            <a:ext cx="8839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47242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2590920"/>
            <a:ext cx="2667240" cy="7617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</a:rPr>
              <a:t>3 BİRLİ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057400"/>
            <a:ext cx="4343400" cy="1066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000000"/>
                </a:solidFill>
                <a:latin typeface="Times New Roman"/>
              </a:rPr>
              <a:t>2 ONLU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286000"/>
            <a:ext cx="746748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53280" y="1905120"/>
            <a:ext cx="990720" cy="7617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2590920"/>
            <a:ext cx="1828800" cy="7617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3733920"/>
            <a:ext cx="3200400" cy="9144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514600"/>
            <a:ext cx="44197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1 onlu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1981080"/>
            <a:ext cx="457200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8 birli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2514600"/>
            <a:ext cx="0" cy="266688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67440" y="4948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200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5880" y="83808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 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40280" y="22096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886200"/>
            <a:ext cx="426744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34290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9" idx="3"/>
            <a:endCxn id="260" idx="3"/>
          </p:cNvCxnSpPr>
          <p:nvPr/>
        </p:nvCxnSpPr>
        <p:spPr>
          <a:xfrm>
            <a:off x="5137200" y="1616040"/>
            <a:ext cx="2160" cy="1372320"/>
          </a:xfrm>
          <a:prstGeom prst="curvedConnector5">
            <a:avLst>
              <a:gd name="adj1" fmla="val 30200000"/>
              <a:gd name="adj2" fmla="val 49986"/>
              <a:gd name="adj3" fmla="val 302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5715720" y="1676520"/>
            <a:ext cx="25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ff"/>
                </a:solidFill>
                <a:latin typeface="Times New Roman"/>
              </a:rPr>
              <a:t>çıkma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9" idx="1"/>
            <a:endCxn id="259" idx="0"/>
          </p:cNvCxnSpPr>
          <p:nvPr/>
        </p:nvCxnSpPr>
        <p:spPr>
          <a:xfrm flipH="1" rot="10800000">
            <a:off x="3123720" y="837360"/>
            <a:ext cx="1007280" cy="778680"/>
          </a:xfrm>
          <a:prstGeom prst="curvedConnector5">
            <a:avLst>
              <a:gd name="adj1" fmla="val -22702"/>
              <a:gd name="adj2" fmla="val 64662"/>
              <a:gd name="adj3" fmla="val -22702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811680" y="8380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1066680"/>
            <a:ext cx="762120" cy="1143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1143000"/>
            <a:ext cx="12193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2438280"/>
            <a:ext cx="8384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5200" y="3809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2200" y="3809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354480" y="83808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 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4480" y="182880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3  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3352680"/>
            <a:ext cx="38862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71800"/>
            <a:ext cx="533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2" idx="3"/>
            <a:endCxn id="273" idx="3"/>
          </p:cNvCxnSpPr>
          <p:nvPr/>
        </p:nvCxnSpPr>
        <p:spPr>
          <a:xfrm>
            <a:off x="5365800" y="1616040"/>
            <a:ext cx="2160" cy="991440"/>
          </a:xfrm>
          <a:prstGeom prst="curvedConnector5">
            <a:avLst>
              <a:gd name="adj1" fmla="val 64100000"/>
              <a:gd name="adj2" fmla="val 49981"/>
              <a:gd name="adj3" fmla="val 64100000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6462000" y="1428840"/>
            <a:ext cx="25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3333cc"/>
                </a:solidFill>
                <a:latin typeface="Times New Roman"/>
              </a:rPr>
              <a:t>çıkma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2" idx="1"/>
          </p:cNvCxnSpPr>
          <p:nvPr/>
        </p:nvCxnSpPr>
        <p:spPr>
          <a:xfrm flipH="1" rot="10800000">
            <a:off x="3351600" y="1294560"/>
            <a:ext cx="1708920" cy="321480"/>
          </a:xfrm>
          <a:prstGeom prst="curvedConnector5">
            <a:avLst>
              <a:gd name="adj1" fmla="val -13379"/>
              <a:gd name="adj2" fmla="val 50000"/>
              <a:gd name="adj3" fmla="val -13379"/>
            </a:avLst>
          </a:prstGeom>
          <a:ln w="63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964320" y="838080"/>
            <a:ext cx="139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1219320"/>
            <a:ext cx="762120" cy="9903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990720"/>
            <a:ext cx="129564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22096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21520" y="32767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4480" y="3352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ff"/>
                </a:solidFill>
                <a:latin typeface="Times New Roman"/>
              </a:rPr>
              <a:t>ZİHİNDEN ÇIKARMA İŞLE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52640" y="604800"/>
            <a:ext cx="42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5 –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2800" y="1747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8480" y="2895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343400"/>
            <a:ext cx="2666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1148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2590920"/>
            <a:ext cx="16765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8000" y="1676520"/>
            <a:ext cx="331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0 +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3733920"/>
            <a:ext cx="16002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6280" y="2743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1880" y="266688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7480" y="2666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29000" y="4343400"/>
            <a:ext cx="4343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05320" y="403848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1905120"/>
            <a:ext cx="0" cy="2666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6280" y="4191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4480" y="4495680"/>
            <a:ext cx="762120" cy="1143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11680" y="41911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906920" y="0"/>
            <a:ext cx="483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8 – 35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9880" y="13716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3560" y="243828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38862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3581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286000"/>
            <a:ext cx="160020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00760" y="1214280"/>
            <a:ext cx="331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0 +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3352680"/>
            <a:ext cx="1523880" cy="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40280" y="2362320"/>
            <a:ext cx="331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30 +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3886200"/>
            <a:ext cx="51051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3657600"/>
            <a:ext cx="6098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892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1600200"/>
            <a:ext cx="685800" cy="20574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4028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2608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4520" y="365760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3962520"/>
            <a:ext cx="32004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ff"/>
                </a:solidFill>
                <a:latin typeface="Times New Roman"/>
              </a:rPr>
              <a:t>Toplama ve Çıkarma İşlemi Arasındaki İliş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1600" y="1644480"/>
            <a:ext cx="887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cc"/>
                </a:solidFill>
                <a:latin typeface="Times New Roman"/>
              </a:rPr>
              <a:t>Bir toplama işleminde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</a:rPr>
              <a:t>TOPLAM</a:t>
            </a:r>
            <a:r>
              <a:rPr b="1" lang="tr-TR" sz="36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</a:rPr>
              <a:t>Toplanan</a:t>
            </a:r>
            <a:r>
              <a:rPr b="1" lang="tr-TR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cc"/>
                </a:solidFill>
                <a:latin typeface="Times New Roman"/>
              </a:rPr>
              <a:t>ların her birinden daima </a:t>
            </a:r>
            <a:r>
              <a:rPr b="1" lang="tr-TR" sz="3600" spc="-1" strike="noStrike">
                <a:solidFill>
                  <a:srgbClr val="ff0000"/>
                </a:solidFill>
                <a:latin typeface="Times New Roman"/>
              </a:rPr>
              <a:t>BÜYÜKTÜR</a:t>
            </a:r>
            <a:r>
              <a:rPr b="1" lang="tr-TR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8840" y="3733920"/>
            <a:ext cx="705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43  +  26 = 6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67480" y="48006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28080" y="5851440"/>
            <a:ext cx="371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r-TR" sz="6000" spc="-1" strike="noStrike">
                <a:solidFill>
                  <a:srgbClr val="ff0000"/>
                </a:solidFill>
                <a:latin typeface="Times New Roman"/>
              </a:rPr>
              <a:t>TOPLA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352320" y="4952880"/>
            <a:ext cx="1295640" cy="9144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4876920"/>
            <a:ext cx="1371600" cy="10666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33880" y="5695920"/>
            <a:ext cx="331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3333cc"/>
                </a:solidFill>
                <a:latin typeface="Times New Roman"/>
              </a:rPr>
              <a:t>Toplan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5720" y="3886200"/>
            <a:ext cx="14475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6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962520"/>
            <a:ext cx="1371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4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9" idx="0"/>
            <a:endCxn id="330" idx="0"/>
          </p:cNvCxnSpPr>
          <p:nvPr/>
        </p:nvCxnSpPr>
        <p:spPr>
          <a:xfrm rot="5400000">
            <a:off x="4552560" y="1085760"/>
            <a:ext cx="76680" cy="5677920"/>
          </a:xfrm>
          <a:prstGeom prst="curvedConnector5">
            <a:avLst>
              <a:gd name="adj1" fmla="val -1245283"/>
              <a:gd name="adj2" fmla="val 49996"/>
              <a:gd name="adj3" fmla="val -1245283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439720" y="2514600"/>
            <a:ext cx="458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ff"/>
                </a:solidFill>
                <a:latin typeface="Times New Roman"/>
              </a:rPr>
              <a:t>BÜYÜ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962520"/>
            <a:ext cx="1371600" cy="1143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4038480"/>
            <a:ext cx="15242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9" idx="0"/>
            <a:endCxn id="334" idx="0"/>
          </p:cNvCxnSpPr>
          <p:nvPr/>
        </p:nvCxnSpPr>
        <p:spPr>
          <a:xfrm rot="5400000">
            <a:off x="6152760" y="2761200"/>
            <a:ext cx="153000" cy="2401200"/>
          </a:xfrm>
          <a:prstGeom prst="curvedConnector5">
            <a:avLst>
              <a:gd name="adj1" fmla="val -150000"/>
              <a:gd name="adj2" fmla="val 49992"/>
              <a:gd name="adj3" fmla="val -150000"/>
            </a:avLst>
          </a:prstGeom>
          <a:ln w="633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2439720" y="2514600"/>
            <a:ext cx="458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BÜYÜ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057400"/>
            <a:ext cx="1676520" cy="2362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133720"/>
            <a:ext cx="167652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2133720"/>
            <a:ext cx="167616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2133720"/>
            <a:ext cx="167616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2133720"/>
            <a:ext cx="167652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81080"/>
            <a:ext cx="1981080" cy="2514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2057400"/>
            <a:ext cx="1828800" cy="2514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057400"/>
            <a:ext cx="1828800" cy="2514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057400"/>
            <a:ext cx="1904760" cy="2590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1480" y="0"/>
            <a:ext cx="453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66ff33"/>
                </a:solidFill>
                <a:latin typeface="Times New Roman"/>
              </a:rPr>
              <a:t>5 – 4 =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8006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Varlıkların azalması,yenmesi,kaybolması,biri- ne verilmesi sonucunda o varlık topluluğunda eksilme olur.Bu bir çıkarma işlemid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61080" y="252360"/>
            <a:ext cx="820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Toplam,Toplananların toplamı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daima eşitt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7440" y="1676520"/>
            <a:ext cx="644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43 + 26 = 6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2971800"/>
            <a:ext cx="1295280" cy="129528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352680" y="3048120"/>
            <a:ext cx="1371600" cy="12189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44640" y="4114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2971440"/>
            <a:ext cx="2971800" cy="205740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Bir toplama işleminde verilmeyen toplananı bulmak için toplamdan verilen toplanan çıkarılır.Verilmeyen</a:t>
            </a: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toplanan bulunu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680" y="285912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3962520"/>
            <a:ext cx="106668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51055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00" y="396252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0200" y="495288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342900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4495680"/>
            <a:ext cx="1523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89840" y="2995560"/>
            <a:ext cx="22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cc"/>
                </a:solidFill>
                <a:latin typeface="Times New Roman"/>
              </a:rPr>
              <a:t>toplan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680" y="4038480"/>
            <a:ext cx="22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cc"/>
                </a:solidFill>
                <a:latin typeface="Times New Roman"/>
              </a:rPr>
              <a:t>toplan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2480" y="571500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7800" y="533412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TOPL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8" idx="3"/>
            <a:endCxn id="344" idx="3"/>
          </p:cNvCxnSpPr>
          <p:nvPr/>
        </p:nvCxnSpPr>
        <p:spPr>
          <a:xfrm flipV="1">
            <a:off x="1809720" y="3513960"/>
            <a:ext cx="61200" cy="2094840"/>
          </a:xfrm>
          <a:prstGeom prst="curvedConnector5">
            <a:avLst>
              <a:gd name="adj1" fmla="val 1520710"/>
              <a:gd name="adj2" fmla="val 50000"/>
              <a:gd name="adj3" fmla="val 1520710"/>
            </a:avLst>
          </a:prstGeom>
          <a:ln w="1015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7011000" y="281952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11000" y="373392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00800" y="502920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48006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97160" y="4800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87680" y="4800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5105520"/>
            <a:ext cx="1447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1523880" y="4647960"/>
            <a:ext cx="5562720" cy="99036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3962520"/>
            <a:ext cx="11430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ÇIKARMANIN TERİM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57200" y="12906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3040" y="220968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3809880"/>
            <a:ext cx="3657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350532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920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340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95480" y="20574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120" y="1143000"/>
            <a:ext cx="404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Eksil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3048120"/>
            <a:ext cx="2133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11880" y="2514600"/>
            <a:ext cx="21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3333cc"/>
                </a:solidFill>
                <a:latin typeface="Times New Roman"/>
              </a:rPr>
              <a:t>Çık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457200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82200" y="3809880"/>
            <a:ext cx="258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0" spc="-1" strike="noStrike">
                <a:solidFill>
                  <a:srgbClr val="000000"/>
                </a:solidFill>
                <a:latin typeface="Times New Roman"/>
              </a:rPr>
              <a:t>Far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9280" y="5105520"/>
            <a:ext cx="90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9900ff"/>
                </a:solidFill>
                <a:latin typeface="Times New Roman"/>
              </a:rPr>
              <a:t>Eksilen; Çıkan ve Farktan büyüktü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EKSİLENİ BU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676520"/>
            <a:ext cx="1828800" cy="1371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4280" y="289548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419720"/>
            <a:ext cx="2971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41148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77960" y="41911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8680" y="1523880"/>
            <a:ext cx="9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83080" y="289548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19160" y="426240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84" idx="3"/>
            <a:endCxn id="381" idx="3"/>
          </p:cNvCxnSpPr>
          <p:nvPr/>
        </p:nvCxnSpPr>
        <p:spPr>
          <a:xfrm flipV="1">
            <a:off x="3079800" y="3673080"/>
            <a:ext cx="76680" cy="1296000"/>
          </a:xfrm>
          <a:prstGeom prst="curvedConnector5">
            <a:avLst>
              <a:gd name="adj1" fmla="val 3235849"/>
              <a:gd name="adj2" fmla="val 49986"/>
              <a:gd name="adj3" fmla="val 3235849"/>
            </a:avLst>
          </a:prstGeom>
          <a:ln w="6660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4650840" y="3886200"/>
            <a:ext cx="420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9900ff"/>
                </a:solidFill>
                <a:latin typeface="Times New Roman"/>
              </a:rPr>
              <a:t>TOPLANI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666880" y="2590560"/>
            <a:ext cx="152640" cy="2514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057400" y="2590560"/>
            <a:ext cx="152280" cy="2514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676520"/>
            <a:ext cx="1828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ff"/>
                </a:solidFill>
                <a:latin typeface="Times New Roman"/>
              </a:rPr>
              <a:t>6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40600" y="1600200"/>
            <a:ext cx="560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EKSİL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7720" y="5715000"/>
            <a:ext cx="731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9900ff"/>
                </a:solidFill>
                <a:latin typeface="Times New Roman"/>
              </a:rPr>
              <a:t>ÇIKAN </a:t>
            </a: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tr-TR" sz="4400" spc="-1" strike="noStrike">
                <a:solidFill>
                  <a:srgbClr val="9900ff"/>
                </a:solidFill>
                <a:latin typeface="Times New Roman"/>
              </a:rPr>
              <a:t> FARK </a:t>
            </a: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tr-TR" sz="4400" spc="-1" strike="noStrike">
                <a:solidFill>
                  <a:srgbClr val="9900ff"/>
                </a:solidFill>
                <a:latin typeface="Times New Roman"/>
              </a:rPr>
              <a:t>EKSİ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ÇIKAN SAYIYI BU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000" y="1219320"/>
            <a:ext cx="72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9900ff"/>
                </a:solidFill>
                <a:latin typeface="Times New Roman"/>
              </a:rPr>
              <a:t>EKSİLEN </a:t>
            </a: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tr-TR" sz="4400" spc="-1" strike="noStrike">
                <a:solidFill>
                  <a:srgbClr val="9900ff"/>
                </a:solidFill>
                <a:latin typeface="Times New Roman"/>
              </a:rPr>
              <a:t>FARK </a:t>
            </a: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tr-TR" sz="4400" spc="-1" strike="noStrike">
                <a:solidFill>
                  <a:srgbClr val="9900ff"/>
                </a:solidFill>
                <a:latin typeface="Times New Roman"/>
              </a:rPr>
              <a:t>ÇIK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00000" y="17478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3124080"/>
            <a:ext cx="152424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4495680"/>
            <a:ext cx="2971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9880" y="41911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7" idx="3"/>
            <a:endCxn id="401" idx="3"/>
          </p:cNvCxnSpPr>
          <p:nvPr/>
        </p:nvCxnSpPr>
        <p:spPr>
          <a:xfrm flipH="1">
            <a:off x="2241000" y="2525760"/>
            <a:ext cx="60840" cy="2443680"/>
          </a:xfrm>
          <a:prstGeom prst="curvedConnector5">
            <a:avLst>
              <a:gd name="adj1" fmla="val -2697023"/>
              <a:gd name="adj2" fmla="val 49992"/>
              <a:gd name="adj3" fmla="val -2697023"/>
            </a:avLst>
          </a:prstGeom>
          <a:ln w="8892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2253600" y="2895480"/>
            <a:ext cx="68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ÇIKARILI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16440" y="16765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16440" y="266688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41148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57800" y="38862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6280" y="3886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40480" y="3886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1080" y="3886200"/>
            <a:ext cx="373392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3124080"/>
            <a:ext cx="15242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14760" y="2052720"/>
            <a:ext cx="55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35 öğrenc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90920" y="2133720"/>
            <a:ext cx="365760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Çıkan öğrencil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4+5 =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35-9=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04920"/>
            <a:ext cx="1676520" cy="1981080"/>
          </a:xfrm>
          <a:prstGeom prst="ellipse">
            <a:avLst/>
          </a:prstGeom>
          <a:solidFill>
            <a:srgbClr val="ffffff"/>
          </a:solidFill>
          <a:ln w="0">
            <a:solidFill>
              <a:srgbClr val="9966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143000"/>
            <a:ext cx="160020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1981080"/>
            <a:ext cx="1676520" cy="2057400"/>
          </a:xfrm>
          <a:prstGeom prst="ellipse">
            <a:avLst/>
          </a:prstGeom>
          <a:solidFill>
            <a:srgbClr val="ffffff"/>
          </a:solidFill>
          <a:ln w="0">
            <a:solidFill>
              <a:srgbClr val="9966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762120"/>
            <a:ext cx="1752840" cy="213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762120"/>
            <a:ext cx="1828800" cy="213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6200" y="44197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440" y="4495680"/>
            <a:ext cx="560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Times New Roman"/>
              </a:rPr>
              <a:t>EKSİL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143000"/>
            <a:ext cx="160020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9966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304920"/>
            <a:ext cx="1676520" cy="1981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4640" y="434340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600" spc="-1" strike="noStrike">
                <a:solidFill>
                  <a:srgbClr val="00ffcc"/>
                </a:solidFill>
                <a:latin typeface="Times New Roman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40080" y="4343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ffcc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30800" y="457200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600" spc="-1" strike="noStrike">
                <a:solidFill>
                  <a:srgbClr val="00ffcc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0" y="685800"/>
            <a:ext cx="424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ÇIK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533520"/>
            <a:ext cx="5791320" cy="358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457200"/>
            <a:ext cx="6095880" cy="3962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9760" y="990720"/>
            <a:ext cx="36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FAR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400" y="4495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7600" y="380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7600" y="1371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895480"/>
            <a:ext cx="198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5909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7600" y="2666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219320"/>
            <a:ext cx="2514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3600" y="228600"/>
            <a:ext cx="404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Eksil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28600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5880" y="1447920"/>
            <a:ext cx="336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Çık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581280"/>
            <a:ext cx="259056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8520" y="2743200"/>
            <a:ext cx="2754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00"/>
                </a:solidFill>
                <a:latin typeface="Times New Roman"/>
              </a:rPr>
              <a:t>Far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Times New Roman"/>
              </a:rPr>
              <a:t>(kalan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06920" y="0"/>
            <a:ext cx="453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21932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760" y="3105000"/>
            <a:ext cx="259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Times New Roman"/>
              </a:rPr>
              <a:t>Eksil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1219320"/>
            <a:ext cx="0" cy="19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10040" y="3029040"/>
            <a:ext cx="21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3333cc"/>
                </a:solidFill>
                <a:latin typeface="Times New Roman"/>
              </a:rPr>
              <a:t>Çık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1219320"/>
            <a:ext cx="0" cy="190476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20080" y="2952720"/>
            <a:ext cx="17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ff"/>
                </a:solidFill>
                <a:latin typeface="Times New Roman"/>
              </a:rPr>
              <a:t>Fa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28954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0" y="2057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ff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8040" y="20574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flipH="1" rot="16200000">
            <a:off x="3942720" y="-1352160"/>
            <a:ext cx="2160" cy="7277760"/>
          </a:xfrm>
          <a:prstGeom prst="curvedConnector5">
            <a:avLst>
              <a:gd name="adj1" fmla="val -93500000"/>
              <a:gd name="adj2" fmla="val 49997"/>
              <a:gd name="adj3" fmla="val -93500000"/>
            </a:avLst>
          </a:prstGeom>
          <a:ln w="8892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735360" y="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5" idx="2"/>
            <a:endCxn id="98" idx="0"/>
          </p:cNvCxnSpPr>
          <p:nvPr/>
        </p:nvCxnSpPr>
        <p:spPr>
          <a:xfrm flipV="1" rot="16200000">
            <a:off x="6000120" y="1504440"/>
            <a:ext cx="207000" cy="2912040"/>
          </a:xfrm>
          <a:prstGeom prst="curvedConnector5">
            <a:avLst>
              <a:gd name="adj1" fmla="val 340766"/>
              <a:gd name="adj2" fmla="val 32158"/>
              <a:gd name="adj3" fmla="val 340766"/>
            </a:avLst>
          </a:prstGeom>
          <a:ln w="6660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5564520" y="1523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92" idx="0"/>
            <a:endCxn id="98" idx="1"/>
          </p:cNvCxnSpPr>
          <p:nvPr/>
        </p:nvCxnSpPr>
        <p:spPr>
          <a:xfrm flipH="1" rot="16200000">
            <a:off x="2513520" y="1257480"/>
            <a:ext cx="2520" cy="4268160"/>
          </a:xfrm>
          <a:prstGeom prst="curvedConnector5">
            <a:avLst>
              <a:gd name="adj1" fmla="val 58183333"/>
              <a:gd name="adj2" fmla="val 49995"/>
              <a:gd name="adj3" fmla="val 58183333"/>
            </a:avLst>
          </a:prstGeom>
          <a:ln w="6336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4421520" y="2971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4008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7800" y="5105520"/>
            <a:ext cx="84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3600" spc="-1" strike="noStrike">
                <a:solidFill>
                  <a:srgbClr val="000000"/>
                </a:solidFill>
                <a:latin typeface="Times New Roman"/>
              </a:rPr>
              <a:t>10 elmanın 4 ünü yedim.Kaç elma kalı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imes New Roman"/>
              </a:rPr>
              <a:t>Sayı doğrusu ile yapalı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Aslı’nın 18 cevizi vardı.6 tanesini Ali’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verdi.Geriye kaç cevizi kalı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3040" y="1568520"/>
            <a:ext cx="81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Times New Roman"/>
              </a:rPr>
              <a:t>-Cevizlerin sayısı azaldı mı? Çoğaldı mı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666880"/>
            <a:ext cx="170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50532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27560" y="2995560"/>
            <a:ext cx="432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onluk</a:t>
            </a: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 + 8 </a:t>
            </a: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birl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972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572000"/>
            <a:ext cx="1752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200" y="40356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657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2400" y="4191120"/>
            <a:ext cx="14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66920" y="3986280"/>
            <a:ext cx="193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tr-TR" sz="4400" spc="-1" strike="noStrike">
                <a:solidFill>
                  <a:srgbClr val="ff0000"/>
                </a:solidFill>
                <a:latin typeface="Times New Roman"/>
              </a:rPr>
              <a:t>birl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876920"/>
            <a:ext cx="2895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6483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971800"/>
            <a:ext cx="0" cy="220968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9720" y="45720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886200"/>
            <a:ext cx="0" cy="1295280"/>
          </a:xfrm>
          <a:prstGeom prst="line">
            <a:avLst/>
          </a:prstGeom>
          <a:ln w="1144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5720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4952880"/>
            <a:ext cx="472464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4648320"/>
            <a:ext cx="762120" cy="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2971800"/>
            <a:ext cx="0" cy="220968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4880" y="4876920"/>
            <a:ext cx="21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tr-TR" sz="4000" spc="-1" strike="noStrike">
                <a:solidFill>
                  <a:srgbClr val="ff0000"/>
                </a:solidFill>
                <a:latin typeface="Times New Roman"/>
              </a:rPr>
              <a:t> birli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200400"/>
            <a:ext cx="0" cy="2133720"/>
          </a:xfrm>
          <a:prstGeom prst="line">
            <a:avLst/>
          </a:prstGeom>
          <a:ln w="127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3280" y="4800600"/>
            <a:ext cx="203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tr-TR" sz="4000" spc="-1" strike="noStrike">
                <a:solidFill>
                  <a:srgbClr val="ff0000"/>
                </a:solidFill>
                <a:latin typeface="Times New Roman"/>
              </a:rPr>
              <a:t>onlu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Times New Roman"/>
              </a:rPr>
              <a:t>Çıkarma işleminde şu kurallara dikkat edilmelid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2760" y="1415880"/>
            <a:ext cx="87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Times New Roman"/>
              </a:rPr>
              <a:t>1-</a:t>
            </a:r>
            <a:r>
              <a:rPr b="1" lang="tr-TR" sz="3600" spc="-1" strike="noStrike">
                <a:solidFill>
                  <a:srgbClr val="000000"/>
                </a:solidFill>
                <a:latin typeface="Times New Roman"/>
              </a:rPr>
              <a:t>Çıkarma işlemi,büyük sayıdan küçük say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imes New Roman"/>
              </a:rPr>
              <a:t>çıkarılarak yapıl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9000" y="2286000"/>
            <a:ext cx="453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9 – 3 = 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400" y="3886200"/>
            <a:ext cx="575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23 – 9 = 1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28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5640" y="225360"/>
            <a:ext cx="828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Times New Roman"/>
              </a:rPr>
              <a:t>2- </a:t>
            </a: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Çıkarma işlemi aynı cins varlıkl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Times New Roman"/>
              </a:rPr>
              <a:t>arasından yapılı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200" y="1828800"/>
            <a:ext cx="846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Armuttan elma, elmadan da armut çı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karılamaz.Hepsi ya armut, ya da el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olması gerek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3760" y="3959280"/>
            <a:ext cx="855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Times New Roman"/>
              </a:rPr>
              <a:t>16 elmadan, 5 armut çıkarsa kaç el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Times New Roman"/>
              </a:rPr>
              <a:t>kalı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760" y="4572000"/>
            <a:ext cx="390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ff00ff"/>
                </a:solidFill>
                <a:latin typeface="Times New Roman"/>
              </a:rPr>
              <a:t>çıkma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21160" y="44197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Times New Roman"/>
              </a:rPr>
              <a:t>yanlı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1676520"/>
            <a:ext cx="4952880" cy="495288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09120" y="1600200"/>
            <a:ext cx="4953240" cy="502920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03-10-02T09:04:55Z</dcterms:modified>
  <cp:revision>34</cp:revision>
  <dc:subject/>
  <dc:title>PowerPoint Presentation</dc:title>
</cp:coreProperties>
</file>