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clap.wav" ContentType="audio/x-wav"/>
  <Override PartName="/ppt/media/image18.png" ContentType="image/png"/>
  <Override PartName="/ppt/media/type.wav" ContentType="audio/x-wav"/>
  <Override PartName="/ppt/media/image16.wmf" ContentType="image/x-wmf"/>
  <Override PartName="/ppt/media/image14.wmf" ContentType="image/x-wmf"/>
  <Override PartName="/ppt/media/image11.wmf" ContentType="image/x-wmf"/>
  <Override PartName="/ppt/media/image9.wmf" ContentType="image/x-wmf"/>
  <Override PartName="/ppt/media/image8.wmf" ContentType="image/x-wmf"/>
  <Override PartName="/ppt/media/image1.png" ContentType="image/png"/>
  <Override PartName="/ppt/media/image31.png" ContentType="image/png"/>
  <Override PartName="/ppt/media/image26.png" ContentType="image/png"/>
  <Override PartName="/ppt/media/image27.png" ContentType="image/png"/>
  <Override PartName="/ppt/media/image12.wmf" ContentType="image/x-wmf"/>
  <Override PartName="/ppt/media/image30.png" ContentType="image/png"/>
  <Override PartName="/ppt/media/image28.png" ContentType="image/png"/>
  <Override PartName="/ppt/media/whoosh.wav" ContentType="audio/x-wav"/>
  <Override PartName="/ppt/media/image13.wmf" ContentType="image/x-wmf"/>
  <Override PartName="/ppt/media/image33.png" ContentType="image/png"/>
  <Override PartName="/ppt/media/image34.png" ContentType="image/png"/>
  <Override PartName="/ppt/media/image15.wmf" ContentType="image/x-wmf"/>
  <Override PartName="/ppt/media/image7.png" ContentType="image/png"/>
  <Override PartName="/ppt/media/image35.png" ContentType="image/png"/>
  <Override PartName="/ppt/media/applause.wav" ContentType="audio/x-wav"/>
  <Override PartName="/ppt/media/laser.wav" ContentType="audio/x-wav"/>
  <Override PartName="/ppt/media/image5.wmf" ContentType="image/x-wmf"/>
  <Override PartName="/ppt/media/image6.wmf" ContentType="image/x-wmf"/>
  <Override PartName="/ppt/media/image24.png" ContentType="image/png"/>
  <Override PartName="/ppt/media/image36.png" ContentType="image/png"/>
  <Override PartName="/ppt/media/image4.wmf" ContentType="image/x-wmf"/>
  <Override PartName="/ppt/media/projctor.wav" ContentType="audio/x-wav"/>
  <Override PartName="/ppt/media/camera.wav" ContentType="audio/x-wav"/>
  <Override PartName="/ppt/media/image3.wmf" ContentType="image/x-wmf"/>
  <Override PartName="/ppt/media/image21.jpeg" ContentType="image/jpeg"/>
  <Override PartName="/ppt/media/image29.png" ContentType="image/png"/>
  <Override PartName="/ppt/media/chimes.wav" ContentType="audio/x-wav"/>
  <Override PartName="/ppt/media/image32.png" ContentType="image/png"/>
  <Override PartName="/ppt/media/image25.jpeg" ContentType="image/jpe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D397-DFDC-496C-A46E-8269D3A334A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A8A6-8D7D-48AE-85AB-7639E9E379BA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03ED-D646-4D37-A7BC-4CA014BBC2A9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87F4-2BF4-4976-961C-30114E7A98E9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99BE-CD01-41B3-8029-ACEFC1F285BE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BB17-26E1-4AAF-AEA4-F4C3D73F8515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D1B9-F3CA-4B0D-B149-1F3CDC3EC0C1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F7CA-02F8-4885-B056-858685974CFA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41A1-FF2B-4728-94E7-06D0FB12021E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3569-4BFE-4720-92F8-46FC8157006C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7156-5B76-4A67-89F1-3AB2276E8177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004-12B2-40B0-B5C5-C4B6E91B1EBA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B9A4-FDB6-4BCD-B1F4-F448E416B93B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B13B-B53C-4FEA-BC66-8809652D8334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4278-D6D3-465E-8216-08AA51D74D2A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8469-105E-4ED8-8512-EA4FA00D73C4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F6E1-9721-4075-A4CF-7F82964882A6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6955-3B2E-4018-8376-3CF86B605062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680A-1C64-4C92-8B36-B1BA67672B0F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BCA9-9915-4796-B9F6-DE483BF663B5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AB4E-D316-4A11-91E0-CDC9A0B105D4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0C56-0D18-4840-88BC-861AA0FE7274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E2D2-334C-489D-8D66-9E96F8C1CDBA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378B-5E2F-4F7E-BBBF-3C28091FC14C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0A78-3DAF-4D4B-B3C8-CBBCA6DE1AE5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9F38-6C05-435B-878A-B8ADF7CDC9F4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87D3-9554-4582-8932-E6B21D28115D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C606-5C32-48F5-86DB-2A6B639E92D5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0207-4EAF-4478-A809-E5D9A4F60817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60B7-7C25-43FA-9447-C30F4375F535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C3D1-0CB5-42E9-ACC8-8E3D4657E8A1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A905-2169-4BF0-AF20-FDCFFD65491A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3B9B-7740-45A7-8E59-847E6F66D847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47FF-E8E7-4A3F-9268-96ADF119CD71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61AB-F406-49D5-ACA9-FC8C512AA23A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8DFE-A17E-414D-80AF-F8BD2FAE7371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C1F4-2AE8-47B2-B591-F5EE7E41D893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DE8A-4348-4B79-BA31-CB9095AE1443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86B1-9F48-4ED5-A510-726A453C6606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E238-577D-4C17-B9D5-9AED6D63733F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76BF-6039-4E25-AC80-479D434CFAE1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5F17-8073-494D-BE52-124459939159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80D4-26D5-4951-AE76-3B2FCB3BAD12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E82F-4AAF-4B87-A56A-5CEFEF14C8C2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42FF-EEAB-4C55-9639-152507A6F6AF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9A24-1C46-4495-AEC2-4995741D19FD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4325-3D14-4F59-969E-A2B971A8046E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4B24-4D3B-41EF-AF68-384508AA4447}" type="slidenum">
              <a:rPr b="0" lang="tr-T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EA3-5391-458E-8777-F8841226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BB3-1A09-4D93-A281-CDA6BF23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A36-51CF-465D-9958-72D08A7E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D52-A4DD-4D98-A10A-641C2558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EC7D-97C9-4501-B5C1-ED81F08A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4670-6FDD-420D-8743-72CD52A5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458F-7C90-46BF-9F4F-D6EF3B62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20D8-374A-4CC0-A52B-4C98D185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8160-CDAB-4E2D-B5AB-03FF5048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EB7-A409-4F46-810C-7363F0B3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F697-BDB0-471B-8315-5B8F8F9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A36-92F2-4708-89F1-4AFA577C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39AD-654F-474B-9EDB-C85725FA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E646-B3C5-4AEB-B6B3-290DAE27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47AD-FCE1-4790-BCA3-224E65F7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942E-9CD4-40CF-81EB-83B696A7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0969-D50E-45C2-AC27-46CEF010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CCA-54D4-4D1F-A409-74563BBE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406-DEF9-4D6F-9C51-8FFEEBDA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568-1E01-4E7C-890A-EF6A4FE3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B96-2512-4014-8872-922EDC18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684-D28E-47F7-A01C-33CDA3F6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347-9774-4BAD-A3DD-9141A9A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6DD-249D-4787-96BF-CD9FE99B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İR &amp; Bİ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C2E1-D912-4F30-8BBC-6A8FAFCCB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İR &amp; Bİ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AA0E-1FE5-46E1-B4A3-FDB8A810E80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camera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laser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laser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2.png"/><Relationship Id="rId3" Type="http://schemas.openxmlformats.org/officeDocument/2006/relationships/image" Target="../media/image26.pn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ff0000"/>
                </a:solidFill>
                <a:uFillTx/>
                <a:latin typeface="Comic Sans MS"/>
              </a:rPr>
              <a:t>YAŞADIĞIMIZ YER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ff"/>
                </a:solidFill>
                <a:latin typeface="Comic Sans MS"/>
              </a:rPr>
              <a:t>YÖNL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ff"/>
                </a:solidFill>
                <a:latin typeface="Comic Sans MS"/>
              </a:rPr>
              <a:t>OKULUMU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ff"/>
                </a:solidFill>
                <a:latin typeface="Comic Sans MS"/>
              </a:rPr>
              <a:t>MAHALLEMİ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ff"/>
                </a:solidFill>
                <a:latin typeface="Comic Sans MS"/>
              </a:rPr>
              <a:t>KÖ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ff"/>
                </a:solidFill>
                <a:latin typeface="Comic Sans MS"/>
              </a:rPr>
              <a:t>İLÇEMİZ VE İLİMİ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ff"/>
                </a:solidFill>
                <a:latin typeface="Comic Sans MS"/>
              </a:rPr>
              <a:t>ÇEVREMİZDEKİ YERL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ff"/>
                </a:solidFill>
                <a:latin typeface="Comic Sans MS"/>
              </a:rPr>
              <a:t>YAŞADIĞIMIZ ÇEVREDE BİZİM İÇİN ÇALIŞAN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800000"/>
                </a:solidFill>
                <a:uFillTx/>
                <a:latin typeface="Comic Sans MS"/>
              </a:rPr>
              <a:t>B. OKULUMUZ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800080"/>
                </a:solidFill>
                <a:latin typeface="Comic Sans MS"/>
              </a:rPr>
              <a:t>OKULUMUZUN YERİ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800080"/>
                </a:solidFill>
                <a:latin typeface="Comic Sans MS"/>
              </a:rPr>
              <a:t>OKULUMUZUN ÇEVRESİ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8102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3"/>
          <p:cNvSpPr txBox="1"/>
          <p:nvPr/>
        </p:nvSpPr>
        <p:spPr>
          <a:xfrm rot="5400000">
            <a:off x="-2438280" y="3048120"/>
            <a:ext cx="62481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OKULUMUZUN YERİ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600200" y="609480"/>
            <a:ext cx="6858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Okullar şehir, kasaba ve köylerde ulaşımı kolay yerlere yapılır. Okul binası bir bahçe içinde bulunu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Bizim okulumuz </a:t>
            </a:r>
            <a:r>
              <a:rPr b="1" lang="tr-TR" sz="3200" spc="-1" strike="noStrike">
                <a:solidFill>
                  <a:srgbClr val="800000"/>
                </a:solidFill>
                <a:latin typeface="Comic Sans MS"/>
              </a:rPr>
              <a:t>İstanbul’un</a:t>
            </a:r>
            <a:r>
              <a:rPr b="1" lang="tr-TR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tr-TR" sz="3200" spc="-1" strike="noStrike">
                <a:solidFill>
                  <a:srgbClr val="800000"/>
                </a:solidFill>
                <a:latin typeface="Comic Sans MS"/>
              </a:rPr>
              <a:t>Kadıköy</a:t>
            </a: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 ilçesinded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1"/>
          <a:stretch/>
        </p:blipFill>
        <p:spPr>
          <a:xfrm>
            <a:off x="1676520" y="3581280"/>
            <a:ext cx="64008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 rot="5400000">
            <a:off x="-2324160" y="3009600"/>
            <a:ext cx="624816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OKULUMUZUN ÇEVRESİ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752480" y="53352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Okulumuzun çevresinde cadde ve sokaklar vardır. </a:t>
            </a:r>
            <a:r>
              <a:rPr b="1" lang="tr-TR" sz="3200" spc="-1" strike="noStrike">
                <a:solidFill>
                  <a:srgbClr val="800000"/>
                </a:solidFill>
                <a:latin typeface="Comic Sans MS"/>
              </a:rPr>
              <a:t>Doğusunda</a:t>
            </a: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 Kuyubaşı</a:t>
            </a:r>
            <a:r>
              <a:rPr b="1" lang="tr-TR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sokağı vardır. </a:t>
            </a:r>
            <a:r>
              <a:rPr b="1" lang="tr-TR" sz="3200" spc="-1" strike="noStrike">
                <a:solidFill>
                  <a:srgbClr val="800000"/>
                </a:solidFill>
                <a:latin typeface="Comic Sans MS"/>
              </a:rPr>
              <a:t>Batısında</a:t>
            </a: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 Göztepe SSK Hastanesi bulunur</a:t>
            </a:r>
            <a:r>
              <a:rPr b="1" lang="tr-TR" sz="2400" spc="-1" strike="noStrike">
                <a:solidFill>
                  <a:srgbClr val="80008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Object 4" descr=""/>
          <p:cNvPicPr/>
          <p:nvPr/>
        </p:nvPicPr>
        <p:blipFill>
          <a:blip r:embed="rId1"/>
          <a:stretch/>
        </p:blipFill>
        <p:spPr>
          <a:xfrm>
            <a:off x="2335320" y="2903400"/>
            <a:ext cx="5132160" cy="29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050"/>
          <p:cNvSpPr txBox="1"/>
          <p:nvPr/>
        </p:nvSpPr>
        <p:spPr>
          <a:xfrm rot="5400000">
            <a:off x="-2462040" y="3071880"/>
            <a:ext cx="6248160" cy="71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KROKİ BİLGİSİ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2" name="Text Box 2051"/>
          <p:cNvSpPr/>
          <p:nvPr/>
        </p:nvSpPr>
        <p:spPr>
          <a:xfrm>
            <a:off x="1523880" y="1523880"/>
            <a:ext cx="73152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Bir yerin kuşbakışı görünüşünün kağıt üzerine çizimine </a:t>
            </a:r>
            <a:r>
              <a:rPr b="1" lang="tr-TR" sz="3200" spc="-1" strike="noStrike">
                <a:solidFill>
                  <a:srgbClr val="800000"/>
                </a:solidFill>
                <a:latin typeface="Comic Sans MS"/>
              </a:rPr>
              <a:t>kroki</a:t>
            </a: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 den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Kroki </a:t>
            </a:r>
            <a:r>
              <a:rPr b="1" lang="tr-TR" sz="3200" spc="-1" strike="noStrike" u="sng">
                <a:solidFill>
                  <a:srgbClr val="800080"/>
                </a:solidFill>
                <a:uFillTx/>
                <a:latin typeface="Comic Sans MS"/>
              </a:rPr>
              <a:t>ölçüsüz</a:t>
            </a: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 bir çizimdir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800080"/>
                </a:solidFill>
                <a:latin typeface="Comic Sans MS"/>
              </a:rPr>
              <a:t>Bize aradığımız yeri kolayca bulmamızda yardımcı olur. Krokide yönleri gösteren ok işaretlerini de koymalıyız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 rot="5400000">
            <a:off x="-2362320" y="3124080"/>
            <a:ext cx="609624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KROKİ ÇİZME</a:t>
            </a:r>
            <a:endParaRPr b="1" i="1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666880" y="838080"/>
            <a:ext cx="2133720" cy="2057400"/>
          </a:xfrm>
          <a:prstGeom prst="rect">
            <a:avLst/>
          </a:prstGeom>
          <a:solidFill>
            <a:srgbClr val="6600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638680" y="838080"/>
            <a:ext cx="2133720" cy="2057400"/>
          </a:xfrm>
          <a:prstGeom prst="rect">
            <a:avLst/>
          </a:prstGeom>
          <a:solidFill>
            <a:srgbClr val="6600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590920" y="3962520"/>
            <a:ext cx="5333760" cy="236196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971800" y="4191120"/>
            <a:ext cx="457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Comic Sans MS"/>
              </a:rPr>
              <a:t>OKULUMUZ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057400" y="3200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800080"/>
                </a:solidFill>
                <a:latin typeface="Comic Sans MS"/>
              </a:rPr>
              <a:t>FAHRETTİN KERİM GÖKAY CADDES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819520" y="1752480"/>
            <a:ext cx="1828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Comic Sans MS"/>
              </a:rPr>
              <a:t>BOĞAZİÇİ PASTANESİ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9588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Comic Sans MS"/>
              </a:rPr>
              <a:t>M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295280" y="3505320"/>
            <a:ext cx="1676520" cy="990360"/>
          </a:xfrm>
          <a:prstGeom prst="leftArrow">
            <a:avLst>
              <a:gd name="adj1" fmla="val 50000"/>
              <a:gd name="adj2" fmla="val 42321"/>
            </a:avLst>
          </a:prstGeom>
          <a:solidFill>
            <a:srgbClr val="008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7391520" y="3429000"/>
            <a:ext cx="1295280" cy="914400"/>
          </a:xfrm>
          <a:prstGeom prst="rightArrow">
            <a:avLst>
              <a:gd name="adj1" fmla="val 50000"/>
              <a:gd name="adj2" fmla="val 35413"/>
            </a:avLst>
          </a:prstGeom>
          <a:solidFill>
            <a:srgbClr val="008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4800600" y="5334120"/>
            <a:ext cx="990720" cy="1447560"/>
          </a:xfrm>
          <a:prstGeom prst="downArrow">
            <a:avLst>
              <a:gd name="adj1" fmla="val 50000"/>
              <a:gd name="adj2" fmla="val 36528"/>
            </a:avLst>
          </a:prstGeom>
          <a:solidFill>
            <a:srgbClr val="008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4724280" y="76320"/>
            <a:ext cx="1067040" cy="1752480"/>
          </a:xfrm>
          <a:prstGeom prst="upArrow">
            <a:avLst>
              <a:gd name="adj1" fmla="val 50000"/>
              <a:gd name="adj2" fmla="val 41059"/>
            </a:avLst>
          </a:prstGeom>
          <a:solidFill>
            <a:srgbClr val="008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5029200" y="30492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Comic Sans MS"/>
              </a:rPr>
              <a:t>KUZE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05520" y="5392800"/>
            <a:ext cx="38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Comic Sans MS"/>
              </a:rPr>
              <a:t>GÜNE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74674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Comic Sans MS"/>
              </a:rPr>
              <a:t>DOĞ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175248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Comic Sans MS"/>
              </a:rPr>
              <a:t>BATI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75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7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75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008080"/>
                </a:solidFill>
                <a:uFillTx/>
                <a:latin typeface="Comic Sans MS"/>
              </a:rPr>
              <a:t>C. MAHALLEMİZ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808000"/>
                </a:solidFill>
                <a:latin typeface="Comic Sans MS"/>
              </a:rPr>
              <a:t>EVİMİZİN YERİ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808000"/>
                </a:solidFill>
                <a:latin typeface="Comic Sans MS"/>
              </a:rPr>
              <a:t>EVİMİZİN ÇEVRESİ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808000"/>
                </a:solidFill>
                <a:latin typeface="Comic Sans MS"/>
              </a:rPr>
              <a:t>MAHALLENİN YÖNETİMİ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8102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828800" y="1676520"/>
            <a:ext cx="4038480" cy="16761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752480" y="3962520"/>
            <a:ext cx="4114800" cy="17524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705720" y="1676520"/>
            <a:ext cx="1981080" cy="16761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781680" y="3962520"/>
            <a:ext cx="1905120" cy="17524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828800" y="0"/>
            <a:ext cx="4038480" cy="990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705720" y="0"/>
            <a:ext cx="1904760" cy="990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276720" y="1676520"/>
            <a:ext cx="1295280" cy="685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200400" y="182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Comic Sans MS"/>
              </a:rPr>
              <a:t>EVİ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3276720" y="10666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HANIMEFENDİ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SOKA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2819520" y="3429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KOCAMANSUR SOKA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019920" y="1523880"/>
            <a:ext cx="53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HAS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6095880" y="4038480"/>
            <a:ext cx="4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SOKA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4572000" y="304920"/>
            <a:ext cx="1295280" cy="685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4648320" y="457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Comic Sans MS"/>
              </a:rPr>
              <a:t>ECZAN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6705720" y="457200"/>
            <a:ext cx="1295280" cy="5335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6781680" y="533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Comic Sans MS"/>
              </a:rPr>
              <a:t>MARKE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6705720" y="1676520"/>
            <a:ext cx="1066680" cy="6094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670572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Comic Sans MS"/>
              </a:rPr>
              <a:t>MANAV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WordArt 23"/>
          <p:cNvSpPr txBox="1"/>
          <p:nvPr/>
        </p:nvSpPr>
        <p:spPr>
          <a:xfrm rot="5400000">
            <a:off x="-2500200" y="3110040"/>
            <a:ext cx="624816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VİMİZİN YERİ</a:t>
            </a:r>
            <a:endParaRPr b="1" i="1" lang="en-US" sz="24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1523880" y="59436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ABİDE-İ HÜRRİYET CADDES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1447920" y="1295280"/>
            <a:ext cx="70102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808000"/>
                </a:solidFill>
                <a:latin typeface="Comic Sans MS"/>
              </a:rPr>
              <a:t>İstanbul’un merkezinde olan Şişli ilçesinde oturuyorum. Evimiz, bir apartman dairesidi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808000"/>
                </a:solidFill>
                <a:latin typeface="Comic Sans MS"/>
              </a:rPr>
              <a:t>Apartmanımız 4 katlıdır ve      12 aile yaşamaktadır. Evimizin çevresi çok güzeldir. 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WordArt 4"/>
          <p:cNvSpPr txBox="1"/>
          <p:nvPr/>
        </p:nvSpPr>
        <p:spPr>
          <a:xfrm rot="5400000">
            <a:off x="-2538360" y="3071880"/>
            <a:ext cx="632448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VİMİZİN ÇEVRESİ</a:t>
            </a:r>
            <a:endParaRPr b="1" i="1" lang="en-US" sz="24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 rot="5400000">
            <a:off x="-2538360" y="3071880"/>
            <a:ext cx="632448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VİMİZİN ÇEVRESİ</a:t>
            </a:r>
            <a:endParaRPr b="1" i="1" lang="en-US" sz="24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81080" y="838080"/>
            <a:ext cx="6553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808000"/>
                </a:solidFill>
                <a:latin typeface="Comic Sans MS"/>
              </a:rPr>
              <a:t>Yakınımızda 6 katlı büyük bir mağaza var. Boş zamanımızda oynamak için çocuk parkı bulunu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4" descr="bl00381_"/>
          <p:cNvPicPr/>
          <p:nvPr/>
        </p:nvPicPr>
        <p:blipFill>
          <a:blip r:embed="rId1"/>
          <a:stretch/>
        </p:blipFill>
        <p:spPr>
          <a:xfrm>
            <a:off x="2286000" y="3505320"/>
            <a:ext cx="525780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752480" y="762120"/>
            <a:ext cx="64771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808000"/>
                </a:solidFill>
                <a:latin typeface="Comic Sans MS"/>
              </a:rPr>
              <a:t>Mahalleyi </a:t>
            </a:r>
            <a:r>
              <a:rPr b="1" lang="tr-TR" sz="3400" spc="-1" strike="noStrike" u="sng">
                <a:solidFill>
                  <a:srgbClr val="808000"/>
                </a:solidFill>
                <a:uFillTx/>
                <a:latin typeface="Comic Sans MS"/>
              </a:rPr>
              <a:t>muhtar</a:t>
            </a:r>
            <a:r>
              <a:rPr b="1" lang="tr-TR" sz="3400" spc="-1" strike="noStrike">
                <a:solidFill>
                  <a:srgbClr val="808000"/>
                </a:solidFill>
                <a:latin typeface="Comic Sans MS"/>
              </a:rPr>
              <a:t> ve </a:t>
            </a:r>
            <a:r>
              <a:rPr b="1" lang="tr-TR" sz="3400" spc="-1" strike="noStrike" u="sng">
                <a:solidFill>
                  <a:srgbClr val="808000"/>
                </a:solidFill>
                <a:uFillTx/>
                <a:latin typeface="Comic Sans MS"/>
              </a:rPr>
              <a:t>ihtiyar</a:t>
            </a:r>
            <a:r>
              <a:rPr b="1" lang="tr-TR" sz="3400" spc="-1" strike="noStrike">
                <a:solidFill>
                  <a:srgbClr val="808000"/>
                </a:solidFill>
                <a:latin typeface="Comic Sans MS"/>
              </a:rPr>
              <a:t> </a:t>
            </a:r>
            <a:r>
              <a:rPr b="1" lang="tr-TR" sz="3400" spc="-1" strike="noStrike" u="sng">
                <a:solidFill>
                  <a:srgbClr val="808000"/>
                </a:solidFill>
                <a:uFillTx/>
                <a:latin typeface="Comic Sans MS"/>
              </a:rPr>
              <a:t>heyeti</a:t>
            </a:r>
            <a:r>
              <a:rPr b="1" lang="tr-TR" sz="3400" spc="-1" strike="noStrike">
                <a:solidFill>
                  <a:srgbClr val="808000"/>
                </a:solidFill>
                <a:latin typeface="Comic Sans MS"/>
              </a:rPr>
              <a:t> yönetir. Muhtar  ve ihtiyar heyeti mahalle halkı tarafından seçilir. 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 rot="5400000">
            <a:off x="-2424240" y="3109680"/>
            <a:ext cx="624816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MAHALLENİN YÖNETİMİ</a:t>
            </a:r>
            <a:endParaRPr b="1" i="1" lang="en-US" sz="24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ff6699"/>
                </a:solidFill>
                <a:uFillTx/>
                <a:latin typeface="Comic Sans MS"/>
              </a:rPr>
              <a:t>A. YÖN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ff"/>
                </a:solidFill>
                <a:latin typeface="Comic Sans MS"/>
              </a:rPr>
              <a:t>ANA YÖNL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ff"/>
                </a:solidFill>
                <a:latin typeface="Comic Sans MS"/>
              </a:rPr>
              <a:t>ARA YÖNL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ff"/>
                </a:solidFill>
                <a:latin typeface="Comic Sans MS"/>
              </a:rPr>
              <a:t>YÖNLERİN BULUNMASI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Object 13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9621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 rot="5400000">
            <a:off x="-2500200" y="3110040"/>
            <a:ext cx="624816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MAHALLENİN YÖNETİMİ</a:t>
            </a:r>
            <a:endParaRPr b="1" i="1" lang="en-US" sz="24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447920" y="533520"/>
            <a:ext cx="7377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u="sng">
                <a:solidFill>
                  <a:srgbClr val="808000"/>
                </a:solidFill>
                <a:uFillTx/>
                <a:latin typeface="Comic Sans MS"/>
              </a:rPr>
              <a:t>Muhtar</a:t>
            </a:r>
            <a:r>
              <a:rPr b="1" lang="tr-TR" sz="3200" spc="-1" strike="noStrike">
                <a:solidFill>
                  <a:srgbClr val="808000"/>
                </a:solidFill>
                <a:latin typeface="Comic Sans MS"/>
              </a:rPr>
              <a:t> mahallenin gelişmesi ve güzelleşmesi için çalışır, halkın ihtiyaçlarını ilgili makamlara bildirir, devlet kararlarını mahalle halkına duyuru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Picture 4" descr="bd07153_"/>
          <p:cNvPicPr/>
          <p:nvPr/>
        </p:nvPicPr>
        <p:blipFill>
          <a:blip r:embed="rId1"/>
          <a:stretch/>
        </p:blipFill>
        <p:spPr>
          <a:xfrm>
            <a:off x="3581280" y="3000240"/>
            <a:ext cx="3810240" cy="33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00ff00"/>
                </a:solidFill>
                <a:uFillTx/>
                <a:latin typeface="Comic Sans MS"/>
              </a:rPr>
              <a:t>Ç. KÖ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Comic Sans MS"/>
              </a:rPr>
              <a:t>KÖYÜN ÖZELLİKLER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Comic Sans MS"/>
              </a:rPr>
              <a:t>KÖYÜN YÖNETİMİ</a:t>
            </a:r>
            <a:r>
              <a:rPr b="0" lang="tr-TR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tr-TR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Object 0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9481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 rot="5400000">
            <a:off x="-2611080" y="3108960"/>
            <a:ext cx="624996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KÖYÜN ÖZELLİKLERİ</a:t>
            </a:r>
            <a:endParaRPr b="1" i="1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914400"/>
            <a:ext cx="7162920" cy="477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00"/>
                </a:solidFill>
                <a:latin typeface="Comic Sans MS"/>
              </a:rPr>
              <a:t>Köy, il ve ilçelere göre en küçük yerleşim birimidir. 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00"/>
                </a:solidFill>
                <a:latin typeface="Comic Sans MS"/>
              </a:rPr>
              <a:t>Köyde yaşayan insanlar, genellikle tarım ve hayvancılıkla geçinirle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00"/>
                </a:solidFill>
                <a:latin typeface="Comic Sans MS"/>
              </a:rPr>
              <a:t>Bazı köylerimiz ormanlık bölgelerde ya da su kenarlarında kurulmuştu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219320" y="685800"/>
            <a:ext cx="7543800" cy="29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00"/>
                </a:solidFill>
                <a:latin typeface="Comic Sans MS"/>
              </a:rPr>
              <a:t>Birçok köyde halıcılık, dokumacılık ve çeşitli el sanatları yapılı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00"/>
                </a:solidFill>
                <a:latin typeface="Comic Sans MS"/>
              </a:rPr>
              <a:t>Köy halkının birlikte yaptığı işlere </a:t>
            </a:r>
            <a:r>
              <a:rPr b="1" lang="tr-TR" sz="3400" spc="-1" strike="noStrike">
                <a:solidFill>
                  <a:srgbClr val="00ff00"/>
                </a:solidFill>
                <a:latin typeface="Comic Sans MS"/>
              </a:rPr>
              <a:t>imece</a:t>
            </a:r>
            <a:r>
              <a:rPr b="1" lang="tr-TR" sz="3400" spc="-1" strike="noStrike">
                <a:solidFill>
                  <a:srgbClr val="ffff00"/>
                </a:solidFill>
                <a:latin typeface="Comic Sans MS"/>
              </a:rPr>
              <a:t> deni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 rot="5400000">
            <a:off x="-2611080" y="3108960"/>
            <a:ext cx="624996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KÖYÜN ÖZELLİKLERİ</a:t>
            </a:r>
            <a:endParaRPr b="1" i="1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9" name="Picture 4" descr="bd05158_"/>
          <p:cNvPicPr/>
          <p:nvPr/>
        </p:nvPicPr>
        <p:blipFill>
          <a:blip r:embed="rId1"/>
          <a:stretch/>
        </p:blipFill>
        <p:spPr>
          <a:xfrm>
            <a:off x="4572000" y="2971800"/>
            <a:ext cx="3454560" cy="33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 rot="5400000">
            <a:off x="-2500200" y="3110040"/>
            <a:ext cx="624816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KÖYÜN YÖNETİMİ</a:t>
            </a:r>
            <a:endParaRPr b="1" i="1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828800" y="457200"/>
            <a:ext cx="6781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 u="sng">
                <a:solidFill>
                  <a:srgbClr val="ffff00"/>
                </a:solidFill>
                <a:uFillTx/>
                <a:latin typeface="Comic Sans MS"/>
              </a:rPr>
              <a:t>Köy muhtarı</a:t>
            </a:r>
            <a:r>
              <a:rPr b="1" lang="tr-TR" sz="3400" spc="-1" strike="noStrike">
                <a:solidFill>
                  <a:srgbClr val="ffff00"/>
                </a:solidFill>
                <a:latin typeface="Comic Sans MS"/>
              </a:rPr>
              <a:t> ve </a:t>
            </a:r>
            <a:r>
              <a:rPr b="1" lang="tr-TR" sz="3400" spc="-1" strike="noStrike" u="sng">
                <a:solidFill>
                  <a:srgbClr val="ffff00"/>
                </a:solidFill>
                <a:uFillTx/>
                <a:latin typeface="Comic Sans MS"/>
              </a:rPr>
              <a:t>ihtiyar heyeti</a:t>
            </a:r>
            <a:r>
              <a:rPr b="1" lang="tr-TR" sz="3400" spc="-1" strike="noStrike">
                <a:solidFill>
                  <a:srgbClr val="ffff00"/>
                </a:solidFill>
                <a:latin typeface="Comic Sans MS"/>
              </a:rPr>
              <a:t>, köyü yönetir. Okul müdürü ve imam da köy ihtiyar heyetinin doğal üyeleridi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Object 5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6933960" cy="29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523880" y="762120"/>
            <a:ext cx="70866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 u="sng">
                <a:solidFill>
                  <a:srgbClr val="ffff00"/>
                </a:solidFill>
                <a:uFillTx/>
                <a:latin typeface="Comic Sans MS"/>
              </a:rPr>
              <a:t>Köy muhtarı</a:t>
            </a:r>
            <a:r>
              <a:rPr b="1" lang="tr-TR" sz="3400" spc="-1" strike="noStrike">
                <a:solidFill>
                  <a:srgbClr val="ffff00"/>
                </a:solidFill>
                <a:latin typeface="Comic Sans MS"/>
              </a:rPr>
              <a:t> devletten gelen emirleri köy halkına duyurur. Köy halkının dilek ve isteklerini devletin ilgili yönetim birimlerine ileti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WordArt 3"/>
          <p:cNvSpPr txBox="1"/>
          <p:nvPr/>
        </p:nvSpPr>
        <p:spPr>
          <a:xfrm rot="5400000">
            <a:off x="-2500200" y="3110040"/>
            <a:ext cx="624816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KÖYÜN YÖNETİMİ</a:t>
            </a:r>
            <a:endParaRPr b="1" i="1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05" name="Picture 4" descr="bd07153_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ff00ff"/>
                </a:solidFill>
                <a:uFillTx/>
                <a:latin typeface="Comic Sans MS"/>
              </a:rPr>
              <a:t>D. İLÇEMİZ VE İLİMİZ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İLÇE VE İLİN ÖZELLİKLER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İLÇE VE İLİN YÖNETİM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8" name="Object 4" descr=""/>
          <p:cNvPicPr/>
          <p:nvPr/>
        </p:nvPicPr>
        <p:blipFill>
          <a:blip r:embed="rId1"/>
          <a:stretch/>
        </p:blipFill>
        <p:spPr>
          <a:xfrm>
            <a:off x="4952880" y="1933560"/>
            <a:ext cx="3810240" cy="271152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5" descr=""/>
          <p:cNvPicPr/>
          <p:nvPr/>
        </p:nvPicPr>
        <p:blipFill>
          <a:blip r:embed="rId2"/>
          <a:stretch/>
        </p:blipFill>
        <p:spPr>
          <a:xfrm>
            <a:off x="3336840" y="2743200"/>
            <a:ext cx="580716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 rot="5400000">
            <a:off x="-2514960" y="3124080"/>
            <a:ext cx="642924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İLÇE VE İLİN ÖZELLİKLERİ</a:t>
            </a:r>
            <a:endParaRPr b="1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905120" y="609480"/>
            <a:ext cx="64008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Comic Sans MS"/>
              </a:rPr>
              <a:t>İller yurdumuzun en büyük yönetim birimidir. Büyük iller olduğu gibi, küçük iller de vardı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429000" y="3048120"/>
          <a:ext cx="38019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048120"/>
                    <a:ext cx="38019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 rot="5400000">
            <a:off x="-2543400" y="3124080"/>
            <a:ext cx="642924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İLÇE VE İLİN ÖZELLİKLERİ</a:t>
            </a:r>
            <a:endParaRPr b="1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828800" y="609480"/>
            <a:ext cx="63244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Comic Sans MS"/>
              </a:rPr>
              <a:t>İlçeler, illerden daha küçük yönetim birimleridir. İlçeler illere bağlıdır. İlçelere bağlı bucak ve köyler vardı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6" name="Object 6"/>
          <p:cNvGraphicFramePr/>
          <p:nvPr/>
        </p:nvGraphicFramePr>
        <p:xfrm>
          <a:off x="2743200" y="3470400"/>
          <a:ext cx="4495680" cy="31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470400"/>
                    <a:ext cx="449568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 rot="5400000">
            <a:off x="-2543400" y="3124080"/>
            <a:ext cx="642924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İLÇE VE İLİN ÖZELLİKLERİ</a:t>
            </a:r>
            <a:endParaRPr b="1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447920" y="685800"/>
            <a:ext cx="73911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Comic Sans MS"/>
              </a:rPr>
              <a:t>İl ve ilçelerde çeşitli fabrikalar kurulur. Bu fabrikalarda maddeler işlenir ve kullanıma uygun hale getirili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 rot="5400000">
            <a:off x="-2209680" y="289548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YÖNLER</a:t>
            </a:r>
            <a:endParaRPr b="1" i="1" lang="en-US" sz="40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600200" y="1371600"/>
            <a:ext cx="71629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Güneş’in doğmasına ve batmasına göre değişmeyen noktalara </a:t>
            </a:r>
            <a:r>
              <a:rPr b="1" lang="tr-TR" sz="3200" spc="-1" strike="noStrike">
                <a:solidFill>
                  <a:srgbClr val="ff6699"/>
                </a:solidFill>
                <a:latin typeface="Comic Sans MS"/>
              </a:rPr>
              <a:t>“YÖN”</a:t>
            </a: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 denir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Yönler; bir yerin, bilinen başka bir yere göre nerede bulunduğunu anlamaya yarar. Yönler, </a:t>
            </a:r>
            <a:r>
              <a:rPr b="1" lang="tr-TR" sz="3200" spc="-1" strike="noStrike" u="sng">
                <a:solidFill>
                  <a:srgbClr val="ff6699"/>
                </a:solidFill>
                <a:uFillTx/>
                <a:latin typeface="Comic Sans MS"/>
              </a:rPr>
              <a:t>ana yönler</a:t>
            </a: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 ve </a:t>
            </a:r>
            <a:r>
              <a:rPr b="1" lang="tr-TR" sz="3200" spc="-1" strike="noStrike" u="sng">
                <a:solidFill>
                  <a:srgbClr val="ff6699"/>
                </a:solidFill>
                <a:uFillTx/>
                <a:latin typeface="Comic Sans MS"/>
              </a:rPr>
              <a:t>ara yönler</a:t>
            </a: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 olarak ikiye ayrılır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 rot="5400000">
            <a:off x="-2462040" y="3071880"/>
            <a:ext cx="6248160" cy="71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İLÇE VE İLİN YÖNETİMİ</a:t>
            </a:r>
            <a:endParaRPr b="1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905120" y="533520"/>
            <a:ext cx="66294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Comic Sans MS"/>
              </a:rPr>
              <a:t>İl yönetiminin başında </a:t>
            </a:r>
            <a:r>
              <a:rPr b="1" lang="tr-TR" sz="3400" spc="-1" strike="noStrike" u="sng">
                <a:solidFill>
                  <a:srgbClr val="000000"/>
                </a:solidFill>
                <a:uFillTx/>
                <a:latin typeface="Comic Sans MS"/>
              </a:rPr>
              <a:t>vali</a:t>
            </a:r>
            <a:r>
              <a:rPr b="1" lang="tr-TR" sz="3400" spc="-1" strike="noStrike">
                <a:solidFill>
                  <a:srgbClr val="000000"/>
                </a:solidFill>
                <a:latin typeface="Comic Sans MS"/>
              </a:rPr>
              <a:t> bulunur. Vali il sınırları içinde devletin ve hükümetin temsilcisidir. 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Object 5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1747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 rot="5400000">
            <a:off x="-2462040" y="3071880"/>
            <a:ext cx="6248160" cy="71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İLÇE VE İLİN YÖNETİMİ</a:t>
            </a:r>
            <a:endParaRPr b="1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447920" y="457200"/>
            <a:ext cx="723888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Comic Sans MS"/>
              </a:rPr>
              <a:t>İlçe yönetiminin başında </a:t>
            </a:r>
            <a:r>
              <a:rPr b="1" lang="tr-TR" sz="3400" spc="-1" strike="noStrike" u="sng">
                <a:solidFill>
                  <a:srgbClr val="000000"/>
                </a:solidFill>
                <a:uFillTx/>
                <a:latin typeface="Comic Sans MS"/>
              </a:rPr>
              <a:t>kaymakam</a:t>
            </a:r>
            <a:r>
              <a:rPr b="1" lang="tr-TR" sz="3400" spc="-1" strike="noStrike">
                <a:solidFill>
                  <a:srgbClr val="000000"/>
                </a:solidFill>
                <a:latin typeface="Comic Sans MS"/>
              </a:rPr>
              <a:t> bulunur. Kaymakam ilçede devleti ve hükümeti temsil eder. Bulunduğu ilin valisine bağlı olarak görev yapa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3276720" cy="293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008000"/>
                </a:solidFill>
                <a:uFillTx/>
                <a:latin typeface="Comic Sans MS"/>
              </a:rPr>
              <a:t>E. ÇEVREMİZDEKİ TURİSTİK YERLER, DOĞAL GÜZELLİKLER VE ESKİ YERLEŞİM YERLERİ</a:t>
            </a:r>
            <a:r>
              <a:rPr b="1" lang="tr-TR" sz="4400" spc="-1" strike="noStrike" u="sng">
                <a:solidFill>
                  <a:srgbClr val="ffcc66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d96617"/>
                </a:solidFill>
                <a:latin typeface="Comic Sans MS"/>
              </a:rPr>
              <a:t>YURDUMUZUN TURİSTİK VE DOĞAL GÜZELLİKLERİ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d96617"/>
                </a:solidFill>
                <a:latin typeface="Comic Sans MS"/>
              </a:rPr>
              <a:t>TARİHİ VE DOĞAL GÜZELLİKLERİN </a:t>
            </a:r>
            <a:r>
              <a:rPr b="1" lang="tr-TR" sz="3000" spc="-1" strike="noStrike">
                <a:solidFill>
                  <a:srgbClr val="d26216"/>
                </a:solidFill>
                <a:latin typeface="Comic Sans MS"/>
              </a:rPr>
              <a:t>KORUNMAS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Object 1024" descr=""/>
          <p:cNvPicPr/>
          <p:nvPr/>
        </p:nvPicPr>
        <p:blipFill>
          <a:blip r:embed="rId2"/>
          <a:stretch/>
        </p:blipFill>
        <p:spPr>
          <a:xfrm>
            <a:off x="4648320" y="2612880"/>
            <a:ext cx="396216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 rot="5400000">
            <a:off x="-2667240" y="3276720"/>
            <a:ext cx="65530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YURDUMUZUN TURİSTİK </a:t>
            </a:r>
            <a:endParaRPr b="1" i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0" name="WordArt 3"/>
          <p:cNvSpPr txBox="1"/>
          <p:nvPr/>
        </p:nvSpPr>
        <p:spPr>
          <a:xfrm rot="5400000">
            <a:off x="5371560" y="3085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VE DOĞAL GÜZELLİKLERİ</a:t>
            </a:r>
            <a:endParaRPr b="1" i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295280" y="304920"/>
            <a:ext cx="67057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d96617"/>
                </a:solidFill>
                <a:latin typeface="Comic Sans MS"/>
              </a:rPr>
              <a:t>Yurdumuz turistik ve doğal güzellikler bakımından oldukça zengindir. Eskiden kalma hamamlar, camiler, çeşmeler, saraylar, kaleler ve hanlar vardı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2" name="Object 0"/>
          <p:cNvGraphicFramePr/>
          <p:nvPr/>
        </p:nvGraphicFramePr>
        <p:xfrm>
          <a:off x="2209680" y="3733920"/>
          <a:ext cx="4724640" cy="28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733920"/>
                    <a:ext cx="47246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 rot="5400000">
            <a:off x="-2667240" y="3276720"/>
            <a:ext cx="65530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YURDUMUZUN  TURİSTİK </a:t>
            </a:r>
            <a:endParaRPr b="1" i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5" name="WordArt 3"/>
          <p:cNvSpPr txBox="1"/>
          <p:nvPr/>
        </p:nvSpPr>
        <p:spPr>
          <a:xfrm rot="5400000">
            <a:off x="5371560" y="3085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VE  DOĞAL  GÜZELLİKLERİ</a:t>
            </a:r>
            <a:endParaRPr b="1" i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523880" y="533520"/>
            <a:ext cx="6324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d96617"/>
                </a:solidFill>
                <a:latin typeface="Comic Sans MS"/>
              </a:rPr>
              <a:t>Bunlara yurdumuzun hemen hemen her yerinde rastlanır. Tarihi eser kalıntılarının bulunduğu yerler turistik önem taşır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7" name="Object 5"/>
          <p:cNvGraphicFramePr/>
          <p:nvPr/>
        </p:nvGraphicFramePr>
        <p:xfrm>
          <a:off x="2666880" y="3429000"/>
          <a:ext cx="419112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429000"/>
                    <a:ext cx="4191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371600" y="380880"/>
            <a:ext cx="6705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d96617"/>
                </a:solidFill>
                <a:latin typeface="Comic Sans MS"/>
              </a:rPr>
              <a:t>Tarihi ve doğal güzelliklerimizi görmeye binlerce yerli ve yabancı turist gelir. Bu nedenle doğal güzelliklerimizi ve tarihi yerleri korumalıyız. Orman yangınlarına karşı önlem almalıyız. Ülkemizin kültür zenginliğine sahip çıkmalıyız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WordArt 3"/>
          <p:cNvSpPr txBox="1"/>
          <p:nvPr/>
        </p:nvSpPr>
        <p:spPr>
          <a:xfrm rot="5400000">
            <a:off x="-2705400" y="3085920"/>
            <a:ext cx="64771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TARİHİ  VE  DOĞAL</a:t>
            </a:r>
            <a:endParaRPr b="1" i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1" name="WordArt 4"/>
          <p:cNvSpPr txBox="1"/>
          <p:nvPr/>
        </p:nvSpPr>
        <p:spPr>
          <a:xfrm rot="5400000">
            <a:off x="5390640" y="3143160"/>
            <a:ext cx="6477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ÜZELLİKLERİN  KORUNMASI</a:t>
            </a:r>
            <a:endParaRPr b="1" i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f0066"/>
                </a:solidFill>
                <a:uFillTx/>
                <a:latin typeface="Comic Sans MS"/>
              </a:rPr>
              <a:t>F. YAŞADIĞIMIZ ÇEVREDE BİZİM İÇİN ÇALIŞANLA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457200" y="1851120"/>
            <a:ext cx="388620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MÜDÜR VE ÖĞRETMENL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SAĞLIK GÖREVLİLER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TEMİZLİK İŞÇİLER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POSTACI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POLİS VE BEKÇİL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3962520" y="2228760"/>
            <a:ext cx="2209680" cy="4172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6705720" y="2209680"/>
            <a:ext cx="1981080" cy="2210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4"/>
          <a:stretch/>
        </p:blipFill>
        <p:spPr>
          <a:xfrm>
            <a:off x="6705720" y="4876920"/>
            <a:ext cx="190476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0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5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 u="sng">
                <a:solidFill>
                  <a:srgbClr val="ff0066"/>
                </a:solidFill>
                <a:uFillTx/>
                <a:latin typeface="Comic Sans MS"/>
              </a:rPr>
              <a:t>BİZİM İÇİN ÇALIŞANLAR</a:t>
            </a:r>
            <a:endParaRPr b="0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 rot="5400000">
            <a:off x="-2309760" y="3595680"/>
            <a:ext cx="564840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MÜDÜR  VE  ÖĞRETMENLER</a:t>
            </a:r>
            <a:endParaRPr b="1" i="1" lang="en-US" sz="32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447920" y="838080"/>
            <a:ext cx="746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Çevremizdeki bizim için çalışan birçok görevli vardır. Bunlar; </a:t>
            </a:r>
            <a:r>
              <a:rPr b="1" lang="tr-TR" sz="3000" spc="-1" strike="noStrike">
                <a:solidFill>
                  <a:srgbClr val="ff0066"/>
                </a:solidFill>
                <a:latin typeface="Comic Sans MS"/>
              </a:rPr>
              <a:t>eğitim</a:t>
            </a: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tr-TR" sz="3000" spc="-1" strike="noStrike">
                <a:solidFill>
                  <a:srgbClr val="ff0066"/>
                </a:solidFill>
                <a:latin typeface="Comic Sans MS"/>
              </a:rPr>
              <a:t>sağlık</a:t>
            </a: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tr-TR" sz="3000" spc="-1" strike="noStrike">
                <a:solidFill>
                  <a:srgbClr val="ff0066"/>
                </a:solidFill>
                <a:latin typeface="Comic Sans MS"/>
              </a:rPr>
              <a:t>güvenlik</a:t>
            </a: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tr-TR" sz="3000" spc="-1" strike="noStrike">
                <a:solidFill>
                  <a:srgbClr val="ff0066"/>
                </a:solidFill>
                <a:latin typeface="Comic Sans MS"/>
              </a:rPr>
              <a:t>temizlik</a:t>
            </a: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 gibi işler için görevlendirilmiştir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3581640" cy="236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3276720" cy="26668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914400" y="2895480"/>
            <a:ext cx="7620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Okullarda </a:t>
            </a:r>
            <a:r>
              <a:rPr b="1" lang="tr-TR" sz="3000" spc="-1" strike="noStrike" u="sng">
                <a:solidFill>
                  <a:srgbClr val="6600cc"/>
                </a:solidFill>
                <a:uFillTx/>
                <a:latin typeface="Comic Sans MS"/>
              </a:rPr>
              <a:t>müdür</a:t>
            </a: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 ve </a:t>
            </a:r>
            <a:r>
              <a:rPr b="1" lang="tr-TR" sz="3000" spc="-1" strike="noStrike" u="sng">
                <a:solidFill>
                  <a:srgbClr val="6600cc"/>
                </a:solidFill>
                <a:uFillTx/>
                <a:latin typeface="Comic Sans MS"/>
              </a:rPr>
              <a:t>öğretmenler</a:t>
            </a: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 öğrencilerin iyi yetişmesi için çalışırlar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 rot="5400000">
            <a:off x="-2758320" y="3109320"/>
            <a:ext cx="655488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AĞLIK  GÖREVLİLERİ</a:t>
            </a:r>
            <a:endParaRPr b="1" i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4" name="WordArt 3"/>
          <p:cNvSpPr txBox="1"/>
          <p:nvPr/>
        </p:nvSpPr>
        <p:spPr>
          <a:xfrm rot="5400000">
            <a:off x="5385960" y="3106800"/>
            <a:ext cx="640728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TEMİZLİK  İŞÇİLERİ</a:t>
            </a:r>
            <a:endParaRPr b="1" i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143000" y="304920"/>
            <a:ext cx="6934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Sağlık görevlileri </a:t>
            </a:r>
            <a:r>
              <a:rPr b="1" lang="tr-TR" sz="2800" spc="-1" strike="noStrike" u="sng">
                <a:solidFill>
                  <a:srgbClr val="6600cc"/>
                </a:solidFill>
                <a:uFillTx/>
                <a:latin typeface="Comic Sans MS"/>
              </a:rPr>
              <a:t>doktor</a:t>
            </a: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tr-TR" sz="2800" spc="-1" strike="noStrike" u="sng">
                <a:solidFill>
                  <a:srgbClr val="6600cc"/>
                </a:solidFill>
                <a:uFillTx/>
                <a:latin typeface="Comic Sans MS"/>
              </a:rPr>
              <a:t>hemşire</a:t>
            </a: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, </a:t>
            </a:r>
            <a:r>
              <a:rPr b="1" lang="tr-TR" sz="2800" spc="-1" strike="noStrike" u="sng">
                <a:solidFill>
                  <a:srgbClr val="6600cc"/>
                </a:solidFill>
                <a:uFillTx/>
                <a:latin typeface="Comic Sans MS"/>
              </a:rPr>
              <a:t>sağlık</a:t>
            </a: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tr-TR" sz="2800" spc="-1" strike="noStrike" u="sng">
                <a:solidFill>
                  <a:srgbClr val="6600cc"/>
                </a:solidFill>
                <a:uFillTx/>
                <a:latin typeface="Comic Sans MS"/>
              </a:rPr>
              <a:t>memuru</a:t>
            </a: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 ve </a:t>
            </a:r>
            <a:r>
              <a:rPr b="1" lang="tr-TR" sz="2800" spc="-1" strike="noStrike" u="sng">
                <a:solidFill>
                  <a:srgbClr val="6600cc"/>
                </a:solidFill>
                <a:uFillTx/>
                <a:latin typeface="Comic Sans MS"/>
              </a:rPr>
              <a:t>ebe</a:t>
            </a:r>
            <a:r>
              <a:rPr b="1" lang="tr-TR" sz="2800" spc="-1" strike="noStrike">
                <a:solidFill>
                  <a:srgbClr val="6600cc"/>
                </a:solidFill>
                <a:latin typeface="Comic Sans MS"/>
              </a:rPr>
              <a:t>lerdir. Doktorlar, hasta olduğumuzda hastalığımıza teşhis koyar, reçete yazar. Diğer sağlık görevlileri, doktorların yardımcılarıdı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2209680" cy="2362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tretch/>
        </p:blipFill>
        <p:spPr>
          <a:xfrm>
            <a:off x="1066680" y="2895480"/>
            <a:ext cx="2438640" cy="19814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8"/>
          <p:cNvSpPr/>
          <p:nvPr/>
        </p:nvSpPr>
        <p:spPr>
          <a:xfrm>
            <a:off x="1371600" y="5334120"/>
            <a:ext cx="6629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 u="sng">
                <a:solidFill>
                  <a:srgbClr val="6600cc"/>
                </a:solidFill>
                <a:uFillTx/>
                <a:latin typeface="Comic Sans MS"/>
              </a:rPr>
              <a:t>Temizlik işçileri</a:t>
            </a: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 her gün cadde ve sokaklarımızı süpürürler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4"/>
          <a:stretch/>
        </p:blipFill>
        <p:spPr>
          <a:xfrm>
            <a:off x="6400800" y="2590920"/>
            <a:ext cx="1600200" cy="26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 rot="5400000">
            <a:off x="-2652840" y="3109680"/>
            <a:ext cx="64008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POSTACILAR</a:t>
            </a:r>
            <a:endParaRPr b="1" i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1" name="WordArt 3"/>
          <p:cNvSpPr txBox="1"/>
          <p:nvPr/>
        </p:nvSpPr>
        <p:spPr>
          <a:xfrm rot="5400000">
            <a:off x="5347800" y="3109680"/>
            <a:ext cx="64008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POLİS  VE  BEKÇİLER</a:t>
            </a:r>
            <a:endParaRPr b="1" i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143000" y="30492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 u="sng">
                <a:solidFill>
                  <a:srgbClr val="6600cc"/>
                </a:solidFill>
                <a:uFillTx/>
                <a:latin typeface="Comic Sans MS"/>
              </a:rPr>
              <a:t>Postacılar</a:t>
            </a: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 mektuplarımızı evlerimize getirirler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365760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2133360" cy="35053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3581280" y="4495680"/>
            <a:ext cx="4419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 u="sng">
                <a:solidFill>
                  <a:srgbClr val="6600cc"/>
                </a:solidFill>
                <a:uFillTx/>
                <a:latin typeface="Comic Sans MS"/>
              </a:rPr>
              <a:t>Polis</a:t>
            </a: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 ve </a:t>
            </a:r>
            <a:r>
              <a:rPr b="1" lang="tr-TR" sz="3000" spc="-1" strike="noStrike" u="sng">
                <a:solidFill>
                  <a:srgbClr val="6600cc"/>
                </a:solidFill>
                <a:uFillTx/>
                <a:latin typeface="Comic Sans MS"/>
              </a:rPr>
              <a:t>bekçiler</a:t>
            </a:r>
            <a:r>
              <a:rPr b="1" lang="tr-TR" sz="3000" spc="-1" strike="noStrike">
                <a:solidFill>
                  <a:srgbClr val="6600cc"/>
                </a:solidFill>
                <a:latin typeface="Comic Sans MS"/>
              </a:rPr>
              <a:t>, mal ve can güvenliğimizi sağlayan görevlilerdir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f6699"/>
                </a:solidFill>
                <a:uFillTx/>
                <a:latin typeface="Comic Sans MS"/>
              </a:rPr>
              <a:t>ANA YÖNLE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4495680" y="2438280"/>
            <a:ext cx="3581640" cy="3657600"/>
          </a:xfrm>
          <a:custGeom>
            <a:avLst/>
            <a:gdLst>
              <a:gd name="textAreaLeft" fmla="*/ 1475640 w 3581640"/>
              <a:gd name="textAreaRight" fmla="*/ 2106000 w 3581640"/>
              <a:gd name="textAreaTop" fmla="*/ 1506960 h 3657600"/>
              <a:gd name="textAreaBottom" fmla="*/ 21506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80773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6699"/>
                </a:solidFill>
                <a:latin typeface="Comic Sans MS"/>
              </a:rPr>
              <a:t>DOĞ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71500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6699"/>
                </a:solidFill>
                <a:latin typeface="Comic Sans MS"/>
              </a:rPr>
              <a:t>KUZ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638680" y="6095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6699"/>
                </a:solidFill>
                <a:latin typeface="Comic Sans MS"/>
              </a:rPr>
              <a:t>GÜN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5812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6699"/>
                </a:solidFill>
                <a:latin typeface="Comic Sans MS"/>
              </a:rPr>
              <a:t>BA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52280" y="1600200"/>
            <a:ext cx="35053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Ana yönler </a:t>
            </a:r>
            <a:r>
              <a:rPr b="1" lang="tr-TR" sz="2800" spc="-1" strike="noStrike">
                <a:solidFill>
                  <a:srgbClr val="ff6699"/>
                </a:solidFill>
                <a:latin typeface="Comic Sans MS"/>
              </a:rPr>
              <a:t>4</a:t>
            </a: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 tanedirl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Sağımızı Güneş’in doğduğu yöne çevirip kollarımızı açtığımızda; sağımız </a:t>
            </a:r>
            <a:r>
              <a:rPr b="1" lang="tr-TR" sz="2800" spc="-1" strike="noStrike">
                <a:solidFill>
                  <a:srgbClr val="ff6699"/>
                </a:solidFill>
                <a:latin typeface="Comic Sans MS"/>
              </a:rPr>
              <a:t>DOĞU</a:t>
            </a: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, solumuz </a:t>
            </a:r>
            <a:r>
              <a:rPr b="1" lang="tr-TR" sz="2800" spc="-1" strike="noStrike">
                <a:solidFill>
                  <a:srgbClr val="ff6699"/>
                </a:solidFill>
                <a:latin typeface="Comic Sans MS"/>
              </a:rPr>
              <a:t>BATI</a:t>
            </a: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, önümüz </a:t>
            </a:r>
            <a:r>
              <a:rPr b="1" lang="tr-TR" sz="2800" spc="-1" strike="noStrike">
                <a:solidFill>
                  <a:srgbClr val="ff6699"/>
                </a:solidFill>
                <a:latin typeface="Comic Sans MS"/>
              </a:rPr>
              <a:t>KUZEY</a:t>
            </a: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, arkamız </a:t>
            </a:r>
            <a:r>
              <a:rPr b="1" lang="tr-TR" sz="2800" spc="-1" strike="noStrike">
                <a:solidFill>
                  <a:srgbClr val="ff6699"/>
                </a:solidFill>
                <a:latin typeface="Comic Sans MS"/>
              </a:rPr>
              <a:t>GÜNEY</a:t>
            </a: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 yönündedi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1066680" y="762120"/>
            <a:ext cx="708660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404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DEĞERLENDİRME</a:t>
            </a:r>
            <a:endParaRPr b="1" lang="en-US" sz="3200" spc="1" strike="noStrike">
              <a:ln w="9360">
                <a:solidFill>
                  <a:srgbClr val="ff0066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914400" y="144792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1.</a:t>
            </a:r>
            <a:r>
              <a:rPr b="1" lang="tr-TR" sz="2400" spc="-1" strike="noStrike">
                <a:solidFill>
                  <a:srgbClr val="0099cc"/>
                </a:solidFill>
                <a:latin typeface="Comic Sans MS"/>
              </a:rPr>
              <a:t> Aşağıdakilerden hangisi ana yön </a:t>
            </a:r>
            <a:r>
              <a:rPr b="1" lang="tr-TR" sz="2400" spc="-1" strike="noStrike" u="sng">
                <a:solidFill>
                  <a:srgbClr val="0099cc"/>
                </a:solidFill>
                <a:uFillTx/>
                <a:latin typeface="Comic Sans MS"/>
              </a:rPr>
              <a:t>değildir</a:t>
            </a:r>
            <a:r>
              <a:rPr b="1" lang="tr-TR" sz="2400" spc="-1" strike="noStrike">
                <a:solidFill>
                  <a:srgbClr val="0099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Doğu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Kuzeybatı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Gün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2.</a:t>
            </a:r>
            <a:r>
              <a:rPr b="1" lang="tr-TR" sz="2400" spc="-1" strike="noStrike">
                <a:solidFill>
                  <a:srgbClr val="0099cc"/>
                </a:solidFill>
                <a:latin typeface="Comic Sans MS"/>
              </a:rPr>
              <a:t> Yönler nasıl bulunur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Öğretmene göre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 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Öğrenciye gö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 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Kutup Yıldızı’na gö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3.</a:t>
            </a:r>
            <a:r>
              <a:rPr b="1" lang="tr-TR" sz="2400" spc="-1" strike="noStrike">
                <a:solidFill>
                  <a:srgbClr val="0099cc"/>
                </a:solidFill>
                <a:latin typeface="Comic Sans MS"/>
              </a:rPr>
              <a:t> Pusula ne işe yarar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AutoShape 4">
            <a:hlinkClick r:id="" action="ppaction://hlinkshowjump?jump=lastslide"/>
          </p:cNvPr>
          <p:cNvSpPr/>
          <p:nvPr/>
        </p:nvSpPr>
        <p:spPr>
          <a:xfrm>
            <a:off x="1905120" y="19810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Doğ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AutoShape 5">
            <a:hlinkClick r:id="" action="ppaction://hlinkshowjump?jump=lastslide"/>
          </p:cNvPr>
          <p:cNvSpPr/>
          <p:nvPr/>
        </p:nvSpPr>
        <p:spPr>
          <a:xfrm>
            <a:off x="6400800" y="1981080"/>
            <a:ext cx="1447920" cy="533520"/>
          </a:xfrm>
          <a:custGeom>
            <a:avLst/>
            <a:gdLst>
              <a:gd name="textAreaLeft" fmla="*/ 34560 w 1447920"/>
              <a:gd name="textAreaRight" fmla="*/ 1413360 w 1447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8595" h="21600">
                <a:moveTo>
                  <a:pt x="0" y="0"/>
                </a:moveTo>
                <a:lnTo>
                  <a:pt x="58595" y="0"/>
                </a:lnTo>
                <a:lnTo>
                  <a:pt x="58595" y="21600"/>
                </a:lnTo>
                <a:lnTo>
                  <a:pt x="0" y="21600"/>
                </a:lnTo>
                <a:close/>
              </a:path>
              <a:path fill="lightenLess" w="58595" h="21600">
                <a:moveTo>
                  <a:pt x="0" y="0"/>
                </a:moveTo>
                <a:lnTo>
                  <a:pt x="58595" y="0"/>
                </a:lnTo>
                <a:lnTo>
                  <a:pt x="57195" y="1400"/>
                </a:lnTo>
                <a:lnTo>
                  <a:pt x="1400" y="1400"/>
                </a:lnTo>
                <a:close/>
              </a:path>
              <a:path fill="darken" w="58595" h="21600">
                <a:moveTo>
                  <a:pt x="58595" y="0"/>
                </a:moveTo>
                <a:lnTo>
                  <a:pt x="58595" y="21600"/>
                </a:lnTo>
                <a:lnTo>
                  <a:pt x="57195" y="20200"/>
                </a:lnTo>
                <a:lnTo>
                  <a:pt x="57195" y="1400"/>
                </a:lnTo>
                <a:close/>
              </a:path>
              <a:path fill="darkenLess" w="58595" h="21600">
                <a:moveTo>
                  <a:pt x="58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95" y="20200"/>
                </a:lnTo>
                <a:close/>
              </a:path>
              <a:path fill="lighten" w="58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95" h="21600">
                <a:moveTo>
                  <a:pt x="22291" y="3794"/>
                </a:moveTo>
                <a:lnTo>
                  <a:pt x="36304" y="10800"/>
                </a:lnTo>
                <a:lnTo>
                  <a:pt x="22291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Gün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AutoShape 6">
            <a:hlinkClick r:id="rId1" action="ppaction://hlinksldjump"/>
          </p:cNvPr>
          <p:cNvSpPr/>
          <p:nvPr/>
        </p:nvSpPr>
        <p:spPr>
          <a:xfrm>
            <a:off x="3657600" y="198108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254" h="21600">
                <a:moveTo>
                  <a:pt x="34620" y="3794"/>
                </a:moveTo>
                <a:lnTo>
                  <a:pt x="48633" y="10800"/>
                </a:lnTo>
                <a:lnTo>
                  <a:pt x="34620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Kuzeybat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AutoShape 7">
            <a:hlinkClick r:id="" action="ppaction://hlinkshowjump?jump=lastslide"/>
          </p:cNvPr>
          <p:cNvSpPr/>
          <p:nvPr/>
        </p:nvSpPr>
        <p:spPr>
          <a:xfrm>
            <a:off x="1371600" y="3200400"/>
            <a:ext cx="2971800" cy="533520"/>
          </a:xfrm>
          <a:custGeom>
            <a:avLst/>
            <a:gdLst>
              <a:gd name="textAreaLeft" fmla="*/ 34560 w 2971800"/>
              <a:gd name="textAreaRight" fmla="*/ 2937240 w 2971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0249" h="21600">
                <a:moveTo>
                  <a:pt x="0" y="0"/>
                </a:moveTo>
                <a:lnTo>
                  <a:pt x="120249" y="0"/>
                </a:lnTo>
                <a:lnTo>
                  <a:pt x="120249" y="21600"/>
                </a:lnTo>
                <a:lnTo>
                  <a:pt x="0" y="21600"/>
                </a:lnTo>
                <a:close/>
              </a:path>
              <a:path fill="lightenLess" w="120249" h="21600">
                <a:moveTo>
                  <a:pt x="0" y="0"/>
                </a:moveTo>
                <a:lnTo>
                  <a:pt x="120249" y="0"/>
                </a:lnTo>
                <a:lnTo>
                  <a:pt x="118849" y="1400"/>
                </a:lnTo>
                <a:lnTo>
                  <a:pt x="1400" y="1400"/>
                </a:lnTo>
                <a:close/>
              </a:path>
              <a:path fill="darken" w="120249" h="21600">
                <a:moveTo>
                  <a:pt x="120249" y="0"/>
                </a:moveTo>
                <a:lnTo>
                  <a:pt x="120249" y="21600"/>
                </a:lnTo>
                <a:lnTo>
                  <a:pt x="118849" y="20200"/>
                </a:lnTo>
                <a:lnTo>
                  <a:pt x="118849" y="1400"/>
                </a:lnTo>
                <a:close/>
              </a:path>
              <a:path fill="darkenLess" w="120249" h="21600">
                <a:moveTo>
                  <a:pt x="120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849" y="20200"/>
                </a:lnTo>
                <a:close/>
              </a:path>
              <a:path fill="lighten" w="120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249" h="21600">
                <a:moveTo>
                  <a:pt x="53118" y="3794"/>
                </a:moveTo>
                <a:lnTo>
                  <a:pt x="67131" y="10800"/>
                </a:lnTo>
                <a:lnTo>
                  <a:pt x="53118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Öğretmene gö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AutoShape 8">
            <a:hlinkClick r:id="rId2" action="ppaction://hlinksldjump"/>
          </p:cNvPr>
          <p:cNvSpPr/>
          <p:nvPr/>
        </p:nvSpPr>
        <p:spPr>
          <a:xfrm>
            <a:off x="2971800" y="3809880"/>
            <a:ext cx="3657600" cy="609840"/>
          </a:xfrm>
          <a:custGeom>
            <a:avLst/>
            <a:gdLst>
              <a:gd name="textAreaLeft" fmla="*/ 39240 w 3657600"/>
              <a:gd name="textAreaRight" fmla="*/ 3618360 w 36576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9485" h="21600">
                <a:moveTo>
                  <a:pt x="0" y="0"/>
                </a:moveTo>
                <a:lnTo>
                  <a:pt x="129485" y="0"/>
                </a:lnTo>
                <a:lnTo>
                  <a:pt x="129485" y="21600"/>
                </a:lnTo>
                <a:lnTo>
                  <a:pt x="0" y="21600"/>
                </a:lnTo>
                <a:close/>
              </a:path>
              <a:path fill="lightenLess" w="129485" h="21600">
                <a:moveTo>
                  <a:pt x="0" y="0"/>
                </a:moveTo>
                <a:lnTo>
                  <a:pt x="129485" y="0"/>
                </a:lnTo>
                <a:lnTo>
                  <a:pt x="128085" y="1400"/>
                </a:lnTo>
                <a:lnTo>
                  <a:pt x="1400" y="1400"/>
                </a:lnTo>
                <a:close/>
              </a:path>
              <a:path fill="darken" w="129485" h="21600">
                <a:moveTo>
                  <a:pt x="129485" y="0"/>
                </a:moveTo>
                <a:lnTo>
                  <a:pt x="129485" y="21600"/>
                </a:lnTo>
                <a:lnTo>
                  <a:pt x="128085" y="20200"/>
                </a:lnTo>
                <a:lnTo>
                  <a:pt x="128085" y="1400"/>
                </a:lnTo>
                <a:close/>
              </a:path>
              <a:path fill="darkenLess" w="129485" h="21600">
                <a:moveTo>
                  <a:pt x="129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85" y="20200"/>
                </a:lnTo>
                <a:close/>
              </a:path>
              <a:path fill="lighten" w="129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485" h="21600">
                <a:moveTo>
                  <a:pt x="57736" y="3794"/>
                </a:moveTo>
                <a:lnTo>
                  <a:pt x="71749" y="10800"/>
                </a:lnTo>
                <a:lnTo>
                  <a:pt x="57736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Kutup Yıldızı’na gö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AutoShape 9">
            <a:hlinkClick r:id="" action="ppaction://hlinkshowjump?jump=lastslide"/>
          </p:cNvPr>
          <p:cNvSpPr/>
          <p:nvPr/>
        </p:nvSpPr>
        <p:spPr>
          <a:xfrm>
            <a:off x="4724280" y="3200400"/>
            <a:ext cx="2895840" cy="533520"/>
          </a:xfrm>
          <a:custGeom>
            <a:avLst/>
            <a:gdLst>
              <a:gd name="textAreaLeft" fmla="*/ 34560 w 2895840"/>
              <a:gd name="textAreaRight" fmla="*/ 2861280 w 2895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17176" h="21600">
                <a:moveTo>
                  <a:pt x="0" y="0"/>
                </a:moveTo>
                <a:lnTo>
                  <a:pt x="117176" y="0"/>
                </a:lnTo>
                <a:lnTo>
                  <a:pt x="117176" y="21600"/>
                </a:lnTo>
                <a:lnTo>
                  <a:pt x="0" y="21600"/>
                </a:lnTo>
                <a:close/>
              </a:path>
              <a:path fill="lightenLess" w="117176" h="21600">
                <a:moveTo>
                  <a:pt x="0" y="0"/>
                </a:moveTo>
                <a:lnTo>
                  <a:pt x="117176" y="0"/>
                </a:lnTo>
                <a:lnTo>
                  <a:pt x="115776" y="1400"/>
                </a:lnTo>
                <a:lnTo>
                  <a:pt x="1400" y="1400"/>
                </a:lnTo>
                <a:close/>
              </a:path>
              <a:path fill="darken" w="117176" h="21600">
                <a:moveTo>
                  <a:pt x="117176" y="0"/>
                </a:moveTo>
                <a:lnTo>
                  <a:pt x="117176" y="21600"/>
                </a:lnTo>
                <a:lnTo>
                  <a:pt x="115776" y="20200"/>
                </a:lnTo>
                <a:lnTo>
                  <a:pt x="115776" y="1400"/>
                </a:lnTo>
                <a:close/>
              </a:path>
              <a:path fill="darkenLess" w="117176" h="21600">
                <a:moveTo>
                  <a:pt x="117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776" y="20200"/>
                </a:lnTo>
                <a:close/>
              </a:path>
              <a:path fill="lighten" w="117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7176" h="21600">
                <a:moveTo>
                  <a:pt x="51582" y="3794"/>
                </a:moveTo>
                <a:lnTo>
                  <a:pt x="65594" y="10800"/>
                </a:lnTo>
                <a:lnTo>
                  <a:pt x="51582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Öğrenciye gö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AutoShape 11">
            <a:hlinkClick r:id="rId3" action="ppaction://hlinksldjump"/>
          </p:cNvPr>
          <p:cNvSpPr/>
          <p:nvPr/>
        </p:nvSpPr>
        <p:spPr>
          <a:xfrm>
            <a:off x="1447920" y="5257800"/>
            <a:ext cx="3429000" cy="457200"/>
          </a:xfrm>
          <a:custGeom>
            <a:avLst/>
            <a:gdLst>
              <a:gd name="textAreaLeft" fmla="*/ 29520 w 3429000"/>
              <a:gd name="textAreaRight" fmla="*/ 3399480 w 3429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1890" h="21600">
                <a:moveTo>
                  <a:pt x="0" y="0"/>
                </a:moveTo>
                <a:lnTo>
                  <a:pt x="161890" y="0"/>
                </a:lnTo>
                <a:lnTo>
                  <a:pt x="161890" y="21600"/>
                </a:lnTo>
                <a:lnTo>
                  <a:pt x="0" y="21600"/>
                </a:lnTo>
                <a:close/>
              </a:path>
              <a:path fill="lightenLess" w="161890" h="21600">
                <a:moveTo>
                  <a:pt x="0" y="0"/>
                </a:moveTo>
                <a:lnTo>
                  <a:pt x="161890" y="0"/>
                </a:lnTo>
                <a:lnTo>
                  <a:pt x="160490" y="1400"/>
                </a:lnTo>
                <a:lnTo>
                  <a:pt x="1400" y="1400"/>
                </a:lnTo>
                <a:close/>
              </a:path>
              <a:path fill="darken" w="161890" h="21600">
                <a:moveTo>
                  <a:pt x="161890" y="0"/>
                </a:moveTo>
                <a:lnTo>
                  <a:pt x="161890" y="21600"/>
                </a:lnTo>
                <a:lnTo>
                  <a:pt x="160490" y="20200"/>
                </a:lnTo>
                <a:lnTo>
                  <a:pt x="160490" y="1400"/>
                </a:lnTo>
                <a:close/>
              </a:path>
              <a:path fill="darkenLess" w="161890" h="21600">
                <a:moveTo>
                  <a:pt x="161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490" y="20200"/>
                </a:lnTo>
                <a:close/>
              </a:path>
              <a:path fill="lighten" w="161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61890" h="21600">
                <a:moveTo>
                  <a:pt x="73938" y="3794"/>
                </a:moveTo>
                <a:lnTo>
                  <a:pt x="87951" y="10800"/>
                </a:lnTo>
                <a:lnTo>
                  <a:pt x="73938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Yönleri bulmay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AutoShape 12">
            <a:hlinkClick r:id="" action="ppaction://hlinkshowjump?jump=lastslide"/>
          </p:cNvPr>
          <p:cNvSpPr/>
          <p:nvPr/>
        </p:nvSpPr>
        <p:spPr>
          <a:xfrm>
            <a:off x="1447920" y="5791320"/>
            <a:ext cx="3809880" cy="457200"/>
          </a:xfrm>
          <a:custGeom>
            <a:avLst/>
            <a:gdLst>
              <a:gd name="textAreaLeft" fmla="*/ 29520 w 3809880"/>
              <a:gd name="textAreaRight" fmla="*/ 3780360 w 3809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79870" h="21600">
                <a:moveTo>
                  <a:pt x="0" y="0"/>
                </a:moveTo>
                <a:lnTo>
                  <a:pt x="179870" y="0"/>
                </a:lnTo>
                <a:lnTo>
                  <a:pt x="179870" y="21600"/>
                </a:lnTo>
                <a:lnTo>
                  <a:pt x="0" y="21600"/>
                </a:lnTo>
                <a:close/>
              </a:path>
              <a:path fill="lightenLess" w="179870" h="21600">
                <a:moveTo>
                  <a:pt x="0" y="0"/>
                </a:moveTo>
                <a:lnTo>
                  <a:pt x="179870" y="0"/>
                </a:lnTo>
                <a:lnTo>
                  <a:pt x="178470" y="1400"/>
                </a:lnTo>
                <a:lnTo>
                  <a:pt x="1400" y="1400"/>
                </a:lnTo>
                <a:close/>
              </a:path>
              <a:path fill="darken" w="179870" h="21600">
                <a:moveTo>
                  <a:pt x="179870" y="0"/>
                </a:moveTo>
                <a:lnTo>
                  <a:pt x="179870" y="21600"/>
                </a:lnTo>
                <a:lnTo>
                  <a:pt x="178470" y="20200"/>
                </a:lnTo>
                <a:lnTo>
                  <a:pt x="178470" y="1400"/>
                </a:lnTo>
                <a:close/>
              </a:path>
              <a:path fill="darkenLess" w="179870" h="21600">
                <a:moveTo>
                  <a:pt x="179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470" y="20200"/>
                </a:lnTo>
                <a:close/>
              </a:path>
              <a:path fill="lighten" w="179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9870" h="21600">
                <a:moveTo>
                  <a:pt x="82928" y="3794"/>
                </a:moveTo>
                <a:lnTo>
                  <a:pt x="96941" y="10800"/>
                </a:lnTo>
                <a:lnTo>
                  <a:pt x="82928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Zamanı göstermey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AutoShape 14">
            <a:hlinkClick r:id="" action="ppaction://hlinkshowjump?jump=lastslide"/>
          </p:cNvPr>
          <p:cNvSpPr/>
          <p:nvPr/>
        </p:nvSpPr>
        <p:spPr>
          <a:xfrm>
            <a:off x="1447920" y="6324480"/>
            <a:ext cx="2971800" cy="457200"/>
          </a:xfrm>
          <a:custGeom>
            <a:avLst/>
            <a:gdLst>
              <a:gd name="textAreaLeft" fmla="*/ 29520 w 2971800"/>
              <a:gd name="textAreaRight" fmla="*/ 2942280 w 2971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0307" h="21600">
                <a:moveTo>
                  <a:pt x="0" y="0"/>
                </a:moveTo>
                <a:lnTo>
                  <a:pt x="140307" y="0"/>
                </a:lnTo>
                <a:lnTo>
                  <a:pt x="140307" y="21600"/>
                </a:lnTo>
                <a:lnTo>
                  <a:pt x="0" y="21600"/>
                </a:lnTo>
                <a:close/>
              </a:path>
              <a:path fill="lightenLess" w="140307" h="21600">
                <a:moveTo>
                  <a:pt x="0" y="0"/>
                </a:moveTo>
                <a:lnTo>
                  <a:pt x="140307" y="0"/>
                </a:lnTo>
                <a:lnTo>
                  <a:pt x="138907" y="1400"/>
                </a:lnTo>
                <a:lnTo>
                  <a:pt x="1400" y="1400"/>
                </a:lnTo>
                <a:close/>
              </a:path>
              <a:path fill="darken" w="140307" h="21600">
                <a:moveTo>
                  <a:pt x="140307" y="0"/>
                </a:moveTo>
                <a:lnTo>
                  <a:pt x="140307" y="21600"/>
                </a:lnTo>
                <a:lnTo>
                  <a:pt x="138907" y="20200"/>
                </a:lnTo>
                <a:lnTo>
                  <a:pt x="138907" y="1400"/>
                </a:lnTo>
                <a:close/>
              </a:path>
              <a:path fill="darkenLess" w="140307" h="21600">
                <a:moveTo>
                  <a:pt x="140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07" y="20200"/>
                </a:lnTo>
                <a:close/>
              </a:path>
              <a:path fill="lighten" w="140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0307" h="21600">
                <a:moveTo>
                  <a:pt x="63147" y="3794"/>
                </a:moveTo>
                <a:lnTo>
                  <a:pt x="77160" y="10800"/>
                </a:lnTo>
                <a:lnTo>
                  <a:pt x="63147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Isı ölçmeye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533520" y="838080"/>
            <a:ext cx="815328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4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99cc"/>
                </a:solidFill>
                <a:latin typeface="Comic Sans MS"/>
              </a:rPr>
              <a:t>Mahalle ve köyü kim yönetir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Muhtar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  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Vali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 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Kaymak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5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99cc"/>
                </a:solidFill>
                <a:latin typeface="Comic Sans MS"/>
              </a:rPr>
              <a:t>Hangisi köy halkının geçim kaynaklarından </a:t>
            </a:r>
            <a:r>
              <a:rPr b="1" lang="tr-TR" sz="2400" spc="-1" strike="noStrike" u="sng">
                <a:solidFill>
                  <a:srgbClr val="0099cc"/>
                </a:solidFill>
                <a:uFillTx/>
                <a:latin typeface="Comic Sans MS"/>
              </a:rPr>
              <a:t>değildir</a:t>
            </a:r>
            <a:r>
              <a:rPr b="1" lang="tr-TR" sz="2400" spc="-1" strike="noStrike">
                <a:solidFill>
                  <a:srgbClr val="0099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Tarım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Endüstri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Hayvancılık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6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99cc"/>
                </a:solidFill>
                <a:latin typeface="Comic Sans MS"/>
              </a:rPr>
              <a:t>Yurdumuzun en büyük yönetim birimi hangisidir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İlçe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Bucak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İl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7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99cc"/>
                </a:solidFill>
                <a:latin typeface="Comic Sans MS"/>
              </a:rPr>
              <a:t>Aşağıdakilerden hangisi köyün ortak malıdır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Mera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Okul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Tarla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1447920" y="13716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1" h="21600">
                <a:moveTo>
                  <a:pt x="21784" y="3794"/>
                </a:moveTo>
                <a:lnTo>
                  <a:pt x="35797" y="10800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Muhtar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AutoShape 4">
            <a:hlinkClick r:id="" action="ppaction://hlinkshowjump?jump=lastslide"/>
          </p:cNvPr>
          <p:cNvSpPr/>
          <p:nvPr/>
        </p:nvSpPr>
        <p:spPr>
          <a:xfrm>
            <a:off x="3581280" y="1371600"/>
            <a:ext cx="1524240" cy="685800"/>
          </a:xfrm>
          <a:custGeom>
            <a:avLst/>
            <a:gdLst>
              <a:gd name="textAreaLeft" fmla="*/ 44280 w 1524240"/>
              <a:gd name="textAreaRight" fmla="*/ 1479960 w 152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94" h="21600">
                <a:moveTo>
                  <a:pt x="0" y="0"/>
                </a:moveTo>
                <a:lnTo>
                  <a:pt x="47994" y="0"/>
                </a:lnTo>
                <a:lnTo>
                  <a:pt x="47994" y="21600"/>
                </a:lnTo>
                <a:lnTo>
                  <a:pt x="0" y="21600"/>
                </a:lnTo>
                <a:close/>
              </a:path>
              <a:path fill="lightenLess" w="47994" h="21600">
                <a:moveTo>
                  <a:pt x="0" y="0"/>
                </a:moveTo>
                <a:lnTo>
                  <a:pt x="47994" y="0"/>
                </a:lnTo>
                <a:lnTo>
                  <a:pt x="46594" y="1400"/>
                </a:lnTo>
                <a:lnTo>
                  <a:pt x="1400" y="1400"/>
                </a:lnTo>
                <a:close/>
              </a:path>
              <a:path fill="darken" w="47994" h="21600">
                <a:moveTo>
                  <a:pt x="47994" y="0"/>
                </a:moveTo>
                <a:lnTo>
                  <a:pt x="47994" y="21600"/>
                </a:lnTo>
                <a:lnTo>
                  <a:pt x="46594" y="20200"/>
                </a:lnTo>
                <a:lnTo>
                  <a:pt x="46594" y="1400"/>
                </a:lnTo>
                <a:close/>
              </a:path>
              <a:path fill="darkenLess" w="47994" h="21600">
                <a:moveTo>
                  <a:pt x="47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4" y="20200"/>
                </a:lnTo>
                <a:close/>
              </a:path>
              <a:path fill="lighten" w="47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994" h="21600">
                <a:moveTo>
                  <a:pt x="16990" y="3794"/>
                </a:moveTo>
                <a:lnTo>
                  <a:pt x="31003" y="10800"/>
                </a:lnTo>
                <a:lnTo>
                  <a:pt x="16990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Va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AutoShape 5">
            <a:hlinkClick r:id="" action="ppaction://hlinkshowjump?jump=lastslide"/>
          </p:cNvPr>
          <p:cNvSpPr/>
          <p:nvPr/>
        </p:nvSpPr>
        <p:spPr>
          <a:xfrm>
            <a:off x="5334120" y="1371600"/>
            <a:ext cx="2209680" cy="685800"/>
          </a:xfrm>
          <a:custGeom>
            <a:avLst/>
            <a:gdLst>
              <a:gd name="textAreaLeft" fmla="*/ 44280 w 2209680"/>
              <a:gd name="textAreaRight" fmla="*/ 2165400 w 2209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9571" h="21600">
                <a:moveTo>
                  <a:pt x="0" y="0"/>
                </a:moveTo>
                <a:lnTo>
                  <a:pt x="69571" y="0"/>
                </a:lnTo>
                <a:lnTo>
                  <a:pt x="69571" y="21600"/>
                </a:lnTo>
                <a:lnTo>
                  <a:pt x="0" y="21600"/>
                </a:lnTo>
                <a:close/>
              </a:path>
              <a:path fill="lightenLess" w="69571" h="21600">
                <a:moveTo>
                  <a:pt x="0" y="0"/>
                </a:moveTo>
                <a:lnTo>
                  <a:pt x="69571" y="0"/>
                </a:lnTo>
                <a:lnTo>
                  <a:pt x="68171" y="1400"/>
                </a:lnTo>
                <a:lnTo>
                  <a:pt x="1400" y="1400"/>
                </a:lnTo>
                <a:close/>
              </a:path>
              <a:path fill="darken" w="69571" h="21600">
                <a:moveTo>
                  <a:pt x="69571" y="0"/>
                </a:moveTo>
                <a:lnTo>
                  <a:pt x="69571" y="21600"/>
                </a:lnTo>
                <a:lnTo>
                  <a:pt x="68171" y="20200"/>
                </a:lnTo>
                <a:lnTo>
                  <a:pt x="68171" y="1400"/>
                </a:lnTo>
                <a:close/>
              </a:path>
              <a:path fill="darkenLess" w="69571" h="21600">
                <a:moveTo>
                  <a:pt x="69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171" y="20200"/>
                </a:lnTo>
                <a:close/>
              </a:path>
              <a:path fill="lighten" w="69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571" h="21600">
                <a:moveTo>
                  <a:pt x="27779" y="3794"/>
                </a:moveTo>
                <a:lnTo>
                  <a:pt x="41792" y="10800"/>
                </a:lnTo>
                <a:lnTo>
                  <a:pt x="27779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Kaymak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AutoShape 6">
            <a:hlinkClick r:id="" action="ppaction://hlinkshowjump?jump=lastslide"/>
          </p:cNvPr>
          <p:cNvSpPr/>
          <p:nvPr/>
        </p:nvSpPr>
        <p:spPr>
          <a:xfrm>
            <a:off x="1371600" y="266688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87" h="21600">
                <a:moveTo>
                  <a:pt x="19387" y="3794"/>
                </a:moveTo>
                <a:lnTo>
                  <a:pt x="33400" y="10800"/>
                </a:lnTo>
                <a:lnTo>
                  <a:pt x="19387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Tarı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3276720" y="266688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1" h="21600">
                <a:moveTo>
                  <a:pt x="21784" y="3794"/>
                </a:moveTo>
                <a:lnTo>
                  <a:pt x="35797" y="10800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Endüst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AutoShape 8">
            <a:hlinkClick r:id="" action="ppaction://hlinkshowjump?jump=lastslide"/>
          </p:cNvPr>
          <p:cNvSpPr/>
          <p:nvPr/>
        </p:nvSpPr>
        <p:spPr>
          <a:xfrm>
            <a:off x="5486400" y="2666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74" h="21600">
                <a:moveTo>
                  <a:pt x="28980" y="3794"/>
                </a:moveTo>
                <a:lnTo>
                  <a:pt x="42993" y="10800"/>
                </a:lnTo>
                <a:lnTo>
                  <a:pt x="28980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Hayvancılı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AutoShape 10">
            <a:hlinkClick r:id="" action="ppaction://hlinkshowjump?jump=lastslide"/>
          </p:cNvPr>
          <p:cNvSpPr/>
          <p:nvPr/>
        </p:nvSpPr>
        <p:spPr>
          <a:xfrm>
            <a:off x="1295280" y="396252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3794"/>
                </a:moveTo>
                <a:lnTo>
                  <a:pt x="27405" y="10800"/>
                </a:lnTo>
                <a:lnTo>
                  <a:pt x="13392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İlç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5105520" y="3962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İl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AutoShape 12">
            <a:hlinkClick r:id="" action="ppaction://hlinkshowjump?jump=lastslide"/>
          </p:cNvPr>
          <p:cNvSpPr/>
          <p:nvPr/>
        </p:nvSpPr>
        <p:spPr>
          <a:xfrm>
            <a:off x="3200400" y="396252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982" h="21600">
                <a:moveTo>
                  <a:pt x="16985" y="3794"/>
                </a:moveTo>
                <a:lnTo>
                  <a:pt x="30998" y="10800"/>
                </a:lnTo>
                <a:lnTo>
                  <a:pt x="16985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Buca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AutoShape 13">
            <a:hlinkClick r:id="" action="ppaction://hlinkshowjump?jump=lastslide"/>
          </p:cNvPr>
          <p:cNvSpPr/>
          <p:nvPr/>
        </p:nvSpPr>
        <p:spPr>
          <a:xfrm>
            <a:off x="1447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80" h="21600">
                <a:moveTo>
                  <a:pt x="15783" y="3794"/>
                </a:moveTo>
                <a:lnTo>
                  <a:pt x="29796" y="10800"/>
                </a:lnTo>
                <a:lnTo>
                  <a:pt x="15783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Me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320040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Oku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AutoShape 15">
            <a:hlinkClick r:id="" action="ppaction://hlinkshowjump?jump=lastslide"/>
          </p:cNvPr>
          <p:cNvSpPr/>
          <p:nvPr/>
        </p:nvSpPr>
        <p:spPr>
          <a:xfrm>
            <a:off x="5029200" y="53341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85" h="21600">
                <a:moveTo>
                  <a:pt x="18186" y="3794"/>
                </a:moveTo>
                <a:lnTo>
                  <a:pt x="32199" y="10800"/>
                </a:lnTo>
                <a:lnTo>
                  <a:pt x="18186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Tar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609480" y="685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85800" y="838080"/>
            <a:ext cx="77724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8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99cc"/>
                </a:solidFill>
                <a:latin typeface="Comic Sans MS"/>
              </a:rPr>
              <a:t>Aşağıdaki noktalı yerlere uygun kelimeler bularak cümleleri tamamlayınız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a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Yurdumuz doğal güzellikler bakımından oldukça .........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b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Okullarda ......... ve .......... öğrencilerin iyi yetişmesi için çalışı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c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Sağlık görevlileri doktor, ......... , sağlık memuru ve .........dir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ç.</a:t>
            </a:r>
            <a:r>
              <a:rPr b="1" lang="tr-TR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200b5b"/>
                </a:solidFill>
                <a:latin typeface="Comic Sans MS"/>
              </a:rPr>
              <a:t>Yurdumuzda eskiden kalma hamamlar, ......... , çeşmeler, ......... , kaleler ve ......... vardı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705720" y="5715000"/>
            <a:ext cx="2133360" cy="914400"/>
          </a:xfrm>
          <a:custGeom>
            <a:avLst/>
            <a:gdLst>
              <a:gd name="textAreaLeft" fmla="*/ 59040 w 2133360"/>
              <a:gd name="textAreaRight" fmla="*/ 2074320 w 2133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0383" h="21600">
                <a:moveTo>
                  <a:pt x="0" y="0"/>
                </a:moveTo>
                <a:lnTo>
                  <a:pt x="50383" y="0"/>
                </a:lnTo>
                <a:lnTo>
                  <a:pt x="50383" y="21600"/>
                </a:lnTo>
                <a:lnTo>
                  <a:pt x="0" y="21600"/>
                </a:lnTo>
                <a:close/>
              </a:path>
              <a:path fill="lightenLess" w="50383" h="21600">
                <a:moveTo>
                  <a:pt x="0" y="0"/>
                </a:moveTo>
                <a:lnTo>
                  <a:pt x="50383" y="0"/>
                </a:lnTo>
                <a:lnTo>
                  <a:pt x="48983" y="1400"/>
                </a:lnTo>
                <a:lnTo>
                  <a:pt x="1400" y="1400"/>
                </a:lnTo>
                <a:close/>
              </a:path>
              <a:path fill="darken" w="50383" h="21600">
                <a:moveTo>
                  <a:pt x="50383" y="0"/>
                </a:moveTo>
                <a:lnTo>
                  <a:pt x="50383" y="21600"/>
                </a:lnTo>
                <a:lnTo>
                  <a:pt x="48983" y="20200"/>
                </a:lnTo>
                <a:lnTo>
                  <a:pt x="48983" y="1400"/>
                </a:lnTo>
                <a:close/>
              </a:path>
              <a:path fill="darkenLess" w="50383" h="21600">
                <a:moveTo>
                  <a:pt x="50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3" y="20200"/>
                </a:lnTo>
                <a:close/>
              </a:path>
              <a:path fill="lighten" w="50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83" h="21600">
                <a:moveTo>
                  <a:pt x="18185" y="3794"/>
                </a:moveTo>
                <a:lnTo>
                  <a:pt x="32198" y="10800"/>
                </a:lnTo>
                <a:lnTo>
                  <a:pt x="18185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AutoShape 5">
            <a:hlinkClick r:id="" action="ppaction://hlinkshowjump?jump=lastslide"/>
          </p:cNvPr>
          <p:cNvSpPr/>
          <p:nvPr/>
        </p:nvSpPr>
        <p:spPr>
          <a:xfrm>
            <a:off x="228600" y="57150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5" h="21600">
                <a:moveTo>
                  <a:pt x="22686" y="10800"/>
                </a:moveTo>
                <a:lnTo>
                  <a:pt x="36699" y="3794"/>
                </a:lnTo>
                <a:lnTo>
                  <a:pt x="36699" y="17806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3886200" y="58672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7251" y="10800"/>
                </a:moveTo>
                <a:lnTo>
                  <a:pt x="16745" y="17806"/>
                </a:lnTo>
                <a:lnTo>
                  <a:pt x="16745" y="3794"/>
                </a:lnTo>
                <a:close/>
              </a:path>
              <a:path fill="darken" w="47504" h="21600">
                <a:moveTo>
                  <a:pt x="29096" y="3794"/>
                </a:moveTo>
                <a:lnTo>
                  <a:pt x="29096" y="17806"/>
                </a:lnTo>
                <a:lnTo>
                  <a:pt x="30758" y="17806"/>
                </a:lnTo>
                <a:lnTo>
                  <a:pt x="30758" y="3794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304920" y="5867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200b5b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7772400" y="57913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200b5b"/>
                </a:solidFill>
                <a:latin typeface="Comic Sans MS"/>
              </a:rPr>
              <a:t>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1371600" y="609480"/>
            <a:ext cx="6781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9966ff"/>
                </a:solidFill>
                <a:latin typeface="Comic Sans MS"/>
              </a:rPr>
              <a:t>ÜNİTENİN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9966ff"/>
                </a:solidFill>
                <a:latin typeface="Comic Sans MS"/>
              </a:rPr>
              <a:t>SONU</a:t>
            </a:r>
            <a:r>
              <a:rPr b="1" lang="tr-TR" sz="80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1" lang="tr-TR" sz="8000" spc="-1" strike="noStrike">
                <a:solidFill>
                  <a:srgbClr val="ff33cc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AutoShape 7">
            <a:hlinkClick r:id="" action="ppaction://hlinkshowjump?jump=endshow"/>
          </p:cNvPr>
          <p:cNvSpPr/>
          <p:nvPr/>
        </p:nvSpPr>
        <p:spPr>
          <a:xfrm>
            <a:off x="7848720" y="57150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20294" y="10800"/>
                </a:moveTo>
                <a:lnTo>
                  <a:pt x="9788" y="17806"/>
                </a:lnTo>
                <a:lnTo>
                  <a:pt x="9788" y="3794"/>
                </a:lnTo>
                <a:close/>
              </a:path>
              <a:path fill="darken" w="33590" h="21600">
                <a:moveTo>
                  <a:pt x="22139" y="3794"/>
                </a:moveTo>
                <a:lnTo>
                  <a:pt x="22139" y="17806"/>
                </a:lnTo>
                <a:lnTo>
                  <a:pt x="23801" y="17806"/>
                </a:lnTo>
                <a:lnTo>
                  <a:pt x="23801" y="3794"/>
                </a:lnTo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80880" y="365040"/>
            <a:ext cx="647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3399"/>
                </a:solidFill>
                <a:latin typeface="Comic Sans MS"/>
              </a:rPr>
              <a:t>DOĞRU CEVAP  </a:t>
            </a:r>
            <a:r>
              <a:rPr b="1" lang="tr-TR" sz="8000" spc="-1" strike="noStrike">
                <a:solidFill>
                  <a:srgbClr val="003399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AutoShape 3">
            <a:hlinkClick r:id="" action="ppaction://hlinkshowjump?jump=previousslide"/>
          </p:cNvPr>
          <p:cNvSpPr/>
          <p:nvPr/>
        </p:nvSpPr>
        <p:spPr>
          <a:xfrm>
            <a:off x="5715000" y="4724280"/>
            <a:ext cx="2895480" cy="1676520"/>
          </a:xfrm>
          <a:custGeom>
            <a:avLst/>
            <a:gdLst>
              <a:gd name="textAreaLeft" fmla="*/ 108360 w 2895480"/>
              <a:gd name="textAreaRight" fmla="*/ 2787120 w 28954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02" h="21600">
                <a:moveTo>
                  <a:pt x="11644" y="3794"/>
                </a:moveTo>
                <a:lnTo>
                  <a:pt x="25657" y="10800"/>
                </a:lnTo>
                <a:lnTo>
                  <a:pt x="11644" y="17806"/>
                </a:lnTo>
                <a:close/>
              </a:path>
            </a:pathLst>
          </a:custGeom>
          <a:solidFill>
            <a:srgbClr val="99cc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496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3657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496040" cy="327672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4"/>
          <p:cNvSpPr/>
          <p:nvPr/>
        </p:nvSpPr>
        <p:spPr>
          <a:xfrm>
            <a:off x="5791320" y="4724280"/>
            <a:ext cx="2895480" cy="1676520"/>
          </a:xfrm>
          <a:custGeom>
            <a:avLst/>
            <a:gdLst>
              <a:gd name="textAreaLeft" fmla="*/ 108360 w 2895480"/>
              <a:gd name="textAreaRight" fmla="*/ 2787120 w 28954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02" h="21600">
                <a:moveTo>
                  <a:pt x="11644" y="3794"/>
                </a:moveTo>
                <a:lnTo>
                  <a:pt x="25657" y="10800"/>
                </a:lnTo>
                <a:lnTo>
                  <a:pt x="11644" y="17806"/>
                </a:lnTo>
                <a:close/>
              </a:path>
            </a:pathLst>
          </a:custGeom>
          <a:solidFill>
            <a:srgbClr val="99cc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380880" y="3808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3399"/>
                </a:solidFill>
                <a:latin typeface="Comic Sans MS"/>
              </a:rPr>
              <a:t>DOĞRU CEVAP  </a:t>
            </a:r>
            <a:r>
              <a:rPr b="1" lang="tr-TR" sz="8000" spc="-1" strike="noStrike">
                <a:solidFill>
                  <a:srgbClr val="003399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3657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496040" cy="327672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4"/>
          <p:cNvSpPr/>
          <p:nvPr/>
        </p:nvSpPr>
        <p:spPr>
          <a:xfrm>
            <a:off x="5791320" y="4724280"/>
            <a:ext cx="2895480" cy="1676520"/>
          </a:xfrm>
          <a:custGeom>
            <a:avLst/>
            <a:gdLst>
              <a:gd name="textAreaLeft" fmla="*/ 108360 w 2895480"/>
              <a:gd name="textAreaRight" fmla="*/ 2787120 w 28954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02" h="21600">
                <a:moveTo>
                  <a:pt x="11644" y="3794"/>
                </a:moveTo>
                <a:lnTo>
                  <a:pt x="25657" y="10800"/>
                </a:lnTo>
                <a:lnTo>
                  <a:pt x="11644" y="17806"/>
                </a:lnTo>
                <a:close/>
              </a:path>
            </a:pathLst>
          </a:custGeom>
          <a:solidFill>
            <a:srgbClr val="99cc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80880" y="3808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3399"/>
                </a:solidFill>
                <a:latin typeface="Comic Sans MS"/>
              </a:rPr>
              <a:t>DOĞRU CEVAP  </a:t>
            </a:r>
            <a:r>
              <a:rPr b="1" lang="tr-TR" sz="8000" spc="-1" strike="noStrike">
                <a:solidFill>
                  <a:srgbClr val="003399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828800" y="68580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Comic Sans MS"/>
              </a:rPr>
              <a:t>YENİDEN DENE!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AutoShape 3">
            <a:hlinkClick r:id="" action="ppaction://hlinkshowjump?jump=previousslide"/>
          </p:cNvPr>
          <p:cNvSpPr/>
          <p:nvPr/>
        </p:nvSpPr>
        <p:spPr>
          <a:xfrm>
            <a:off x="4724280" y="4800600"/>
            <a:ext cx="4038840" cy="1600200"/>
          </a:xfrm>
          <a:custGeom>
            <a:avLst/>
            <a:gdLst>
              <a:gd name="textAreaLeft" fmla="*/ 103680 w 4038840"/>
              <a:gd name="textAreaRight" fmla="*/ 3935160 w 403884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54510" h="21600">
                <a:moveTo>
                  <a:pt x="0" y="0"/>
                </a:moveTo>
                <a:lnTo>
                  <a:pt x="54510" y="0"/>
                </a:lnTo>
                <a:lnTo>
                  <a:pt x="54510" y="21600"/>
                </a:lnTo>
                <a:lnTo>
                  <a:pt x="0" y="21600"/>
                </a:lnTo>
                <a:close/>
              </a:path>
              <a:path fill="lightenLess" w="54510" h="21600">
                <a:moveTo>
                  <a:pt x="0" y="0"/>
                </a:moveTo>
                <a:lnTo>
                  <a:pt x="54510" y="0"/>
                </a:lnTo>
                <a:lnTo>
                  <a:pt x="53110" y="1400"/>
                </a:lnTo>
                <a:lnTo>
                  <a:pt x="1400" y="1400"/>
                </a:lnTo>
                <a:close/>
              </a:path>
              <a:path fill="darken" w="54510" h="21600">
                <a:moveTo>
                  <a:pt x="54510" y="0"/>
                </a:moveTo>
                <a:lnTo>
                  <a:pt x="54510" y="21600"/>
                </a:lnTo>
                <a:lnTo>
                  <a:pt x="53110" y="20200"/>
                </a:lnTo>
                <a:lnTo>
                  <a:pt x="53110" y="1400"/>
                </a:lnTo>
                <a:close/>
              </a:path>
              <a:path fill="darkenLess" w="54510" h="21600">
                <a:moveTo>
                  <a:pt x="54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110" y="20200"/>
                </a:lnTo>
                <a:close/>
              </a:path>
              <a:path fill="lighten" w="54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510" h="21600">
                <a:moveTo>
                  <a:pt x="20249" y="3794"/>
                </a:moveTo>
                <a:lnTo>
                  <a:pt x="34262" y="10800"/>
                </a:lnTo>
                <a:lnTo>
                  <a:pt x="20249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590920" cy="4673880"/>
          </a:xfrm>
          <a:prstGeom prst="rect">
            <a:avLst/>
          </a:prstGeom>
          <a:ln w="0">
            <a:noFill/>
          </a:ln>
        </p:spPr>
      </p:pic>
      <p:sp>
        <p:nvSpPr>
          <p:cNvPr id="315" name="WordArt 5"/>
          <p:cNvSpPr txBox="1"/>
          <p:nvPr/>
        </p:nvSpPr>
        <p:spPr>
          <a:xfrm rot="1651200">
            <a:off x="2514240" y="4190760"/>
            <a:ext cx="838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?</a:t>
            </a:r>
            <a:endParaRPr b="1" lang="en-US" sz="7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16" name="WordArt 6"/>
          <p:cNvSpPr txBox="1"/>
          <p:nvPr/>
        </p:nvSpPr>
        <p:spPr>
          <a:xfrm rot="18750000">
            <a:off x="7395840" y="2687400"/>
            <a:ext cx="102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?</a:t>
            </a:r>
            <a:endParaRPr b="1" lang="en-US" sz="60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317" name="WordArt 7"/>
          <p:cNvSpPr txBox="1"/>
          <p:nvPr/>
        </p:nvSpPr>
        <p:spPr>
          <a:xfrm rot="13524600">
            <a:off x="612360" y="347400"/>
            <a:ext cx="990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Comic Sans MS"/>
              </a:rPr>
              <a:t>?</a:t>
            </a:r>
            <a:endParaRPr b="1" lang="en-US" sz="60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f6699"/>
                </a:solidFill>
                <a:uFillTx/>
                <a:latin typeface="Comic Sans MS"/>
              </a:rPr>
              <a:t>ARA YÖNLE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AutoShape 3"/>
          <p:cNvSpPr/>
          <p:nvPr/>
        </p:nvSpPr>
        <p:spPr>
          <a:xfrm rot="2620200">
            <a:off x="5360760" y="2436840"/>
            <a:ext cx="3398760" cy="3349440"/>
          </a:xfrm>
          <a:custGeom>
            <a:avLst/>
            <a:gdLst>
              <a:gd name="textAreaLeft" fmla="*/ 1400400 w 3398760"/>
              <a:gd name="textAreaRight" fmla="*/ 1998360 w 3398760"/>
              <a:gd name="textAreaTop" fmla="*/ 1380240 h 3349440"/>
              <a:gd name="textAreaBottom" fmla="*/ 1969200 h 33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334120" y="2362320"/>
            <a:ext cx="9144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ff6699"/>
                </a:solidFill>
                <a:latin typeface="Comic Sans MS"/>
              </a:rPr>
              <a:t>KUZEYBATI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924680" y="2362320"/>
            <a:ext cx="1219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ff6699"/>
                </a:solidFill>
                <a:latin typeface="Comic Sans MS"/>
              </a:rPr>
              <a:t>KUZEY</a:t>
            </a:r>
            <a:r>
              <a:rPr b="1" lang="tr-TR" sz="17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1700" spc="-1" strike="noStrike">
                <a:solidFill>
                  <a:srgbClr val="ff6699"/>
                </a:solidFill>
                <a:latin typeface="Comic Sans MS"/>
              </a:rPr>
              <a:t>DOĞU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410080" y="5410080"/>
            <a:ext cx="1219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ff6699"/>
                </a:solidFill>
                <a:latin typeface="Comic Sans MS"/>
              </a:rPr>
              <a:t>GÜNEY</a:t>
            </a:r>
            <a:r>
              <a:rPr b="0" lang="tr-TR" sz="17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1700" spc="-1" strike="noStrike">
                <a:solidFill>
                  <a:srgbClr val="ff6699"/>
                </a:solidFill>
                <a:latin typeface="Comic Sans MS"/>
              </a:rPr>
              <a:t>BATI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8001000" y="5410080"/>
            <a:ext cx="1143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ff6699"/>
                </a:solidFill>
                <a:latin typeface="Comic Sans MS"/>
              </a:rPr>
              <a:t>GÜNEY</a:t>
            </a:r>
            <a:r>
              <a:rPr b="0" lang="tr-TR" sz="17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tr-TR" sz="1700" spc="-1" strike="noStrike">
                <a:solidFill>
                  <a:srgbClr val="ff6699"/>
                </a:solidFill>
                <a:latin typeface="Comic Sans MS"/>
              </a:rPr>
              <a:t>DOĞU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57200" y="1752480"/>
            <a:ext cx="44956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Ara yönler ana yönlerin arasında kalan yönlerdi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Kuzey ile doğu arası </a:t>
            </a:r>
            <a:r>
              <a:rPr b="1" lang="tr-TR" sz="2800" spc="-1" strike="noStrike">
                <a:solidFill>
                  <a:srgbClr val="ff6699"/>
                </a:solidFill>
                <a:latin typeface="Comic Sans MS"/>
              </a:rPr>
              <a:t>KUZEYDOĞU</a:t>
            </a: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, kuzey ile batı arası </a:t>
            </a:r>
            <a:r>
              <a:rPr b="1" lang="tr-TR" sz="2800" spc="-1" strike="noStrike">
                <a:solidFill>
                  <a:srgbClr val="ff6699"/>
                </a:solidFill>
                <a:latin typeface="Comic Sans MS"/>
              </a:rPr>
              <a:t>KUZEYBATI</a:t>
            </a: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, güney ile doğu arası </a:t>
            </a:r>
            <a:r>
              <a:rPr b="1" lang="tr-TR" sz="2800" spc="-1" strike="noStrike">
                <a:solidFill>
                  <a:srgbClr val="ff6699"/>
                </a:solidFill>
                <a:latin typeface="Comic Sans MS"/>
              </a:rPr>
              <a:t>GÜNEYDOĞU</a:t>
            </a: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, güney ile batı arası </a:t>
            </a:r>
            <a:r>
              <a:rPr b="1" lang="tr-TR" sz="2800" spc="-1" strike="noStrike">
                <a:solidFill>
                  <a:srgbClr val="ff6699"/>
                </a:solidFill>
                <a:latin typeface="Comic Sans MS"/>
              </a:rPr>
              <a:t>GÜNEYBATI</a:t>
            </a: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 adını alı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f6699"/>
                </a:solidFill>
                <a:uFillTx/>
                <a:latin typeface="Comic Sans MS"/>
              </a:rPr>
              <a:t>YÖNLERİN BULUNMASI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219320" y="1905120"/>
            <a:ext cx="7162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YÖNLER 3 ŞEKİLDE BULUNU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GÜNEŞE GÖ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PUSULA İ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66ff"/>
                </a:solidFill>
                <a:latin typeface="Comic Sans MS"/>
              </a:rPr>
              <a:t>KUTUP YILDIZI İ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Object 5" descr=""/>
          <p:cNvPicPr/>
          <p:nvPr/>
        </p:nvPicPr>
        <p:blipFill>
          <a:blip r:embed="rId1"/>
          <a:stretch/>
        </p:blipFill>
        <p:spPr>
          <a:xfrm>
            <a:off x="3200400" y="44956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7" descr=""/>
          <p:cNvPicPr/>
          <p:nvPr/>
        </p:nvPicPr>
        <p:blipFill>
          <a:blip r:embed="rId2"/>
          <a:stretch/>
        </p:blipFill>
        <p:spPr>
          <a:xfrm>
            <a:off x="5562720" y="2603520"/>
            <a:ext cx="3200400" cy="34923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9"/>
          <p:cNvSpPr/>
          <p:nvPr/>
        </p:nvSpPr>
        <p:spPr>
          <a:xfrm>
            <a:off x="457200" y="4648320"/>
            <a:ext cx="2286000" cy="1828800"/>
          </a:xfrm>
          <a:prstGeom prst="pi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 rot="5400000">
            <a:off x="-2171880" y="2857320"/>
            <a:ext cx="609624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ÜNEŞE GÖRE</a:t>
            </a:r>
            <a:endParaRPr b="1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66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981080" y="609480"/>
            <a:ext cx="6705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Güneşin doğduğu yöne sağ kolumuzu, battığı yöne de sol kolumuzu uzatırız. Sağımız </a:t>
            </a:r>
            <a:r>
              <a:rPr b="1" lang="tr-TR" sz="3200" spc="-1" strike="noStrike">
                <a:solidFill>
                  <a:srgbClr val="ff6699"/>
                </a:solidFill>
                <a:latin typeface="Comic Sans MS"/>
              </a:rPr>
              <a:t>doğu</a:t>
            </a: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, solumuz </a:t>
            </a:r>
            <a:r>
              <a:rPr b="1" lang="tr-TR" sz="3200" spc="-1" strike="noStrike">
                <a:solidFill>
                  <a:srgbClr val="ff6699"/>
                </a:solidFill>
                <a:latin typeface="Comic Sans MS"/>
              </a:rPr>
              <a:t>batı</a:t>
            </a: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, önümüz </a:t>
            </a:r>
            <a:r>
              <a:rPr b="1" lang="tr-TR" sz="3200" spc="-1" strike="noStrike">
                <a:solidFill>
                  <a:srgbClr val="ff6699"/>
                </a:solidFill>
                <a:latin typeface="Comic Sans MS"/>
              </a:rPr>
              <a:t>kuzey</a:t>
            </a: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, arkamız </a:t>
            </a:r>
            <a:r>
              <a:rPr b="1" lang="tr-TR" sz="3200" spc="-1" strike="noStrike">
                <a:solidFill>
                  <a:srgbClr val="ff6699"/>
                </a:solidFill>
                <a:latin typeface="Comic Sans MS"/>
              </a:rPr>
              <a:t>güney</a:t>
            </a: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 olu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1"/>
          <a:stretch/>
        </p:blipFill>
        <p:spPr>
          <a:xfrm>
            <a:off x="3355920" y="3276720"/>
            <a:ext cx="32734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 rot="5400000">
            <a:off x="-2386440" y="3147840"/>
            <a:ext cx="61722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PUSULA İLE</a:t>
            </a:r>
            <a:endParaRPr b="1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66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752480" y="380880"/>
            <a:ext cx="685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66ff"/>
                </a:solidFill>
                <a:latin typeface="Comic Sans MS"/>
              </a:rPr>
              <a:t>Gece-gündüz yönleri en doğru pusula ile buluruz. Pusulada bir ucu koyu, diğer ucu açık renkli gösterge vardır. Bu göstergeye </a:t>
            </a:r>
            <a:r>
              <a:rPr b="1" lang="tr-TR" sz="3000" spc="-1" strike="noStrike">
                <a:solidFill>
                  <a:srgbClr val="ff6699"/>
                </a:solidFill>
                <a:latin typeface="Comic Sans MS"/>
              </a:rPr>
              <a:t>ibre</a:t>
            </a:r>
            <a:r>
              <a:rPr b="1" lang="tr-TR" sz="3000" spc="-1" strike="noStrike">
                <a:solidFill>
                  <a:srgbClr val="0066ff"/>
                </a:solidFill>
                <a:latin typeface="Comic Sans MS"/>
              </a:rPr>
              <a:t> denir. Pusulayı düz bir yere koyduğumuzda ibrenin koyu ucu </a:t>
            </a:r>
            <a:r>
              <a:rPr b="1" lang="tr-TR" sz="3000" spc="-1" strike="noStrike" u="sng">
                <a:solidFill>
                  <a:srgbClr val="ff6699"/>
                </a:solidFill>
                <a:uFillTx/>
                <a:latin typeface="Comic Sans MS"/>
              </a:rPr>
              <a:t>kuzey</a:t>
            </a:r>
            <a:r>
              <a:rPr b="1" lang="tr-TR" sz="3000" spc="-1" strike="noStrike">
                <a:solidFill>
                  <a:srgbClr val="0066ff"/>
                </a:solidFill>
                <a:latin typeface="Comic Sans MS"/>
              </a:rPr>
              <a:t> yönü gösterir ve buradan diğer yönleri buluruz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1"/>
          <a:stretch/>
        </p:blipFill>
        <p:spPr>
          <a:xfrm>
            <a:off x="3886200" y="3790800"/>
            <a:ext cx="3429000" cy="27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 rot="5400000">
            <a:off x="-2424240" y="3109680"/>
            <a:ext cx="624816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KUTUP YILDIZI İLE</a:t>
            </a:r>
            <a:endParaRPr b="1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66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457200"/>
            <a:ext cx="716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Kutup yıldızı en parlak yıldızdır ve hep </a:t>
            </a:r>
            <a:r>
              <a:rPr b="1" lang="tr-TR" sz="3200" spc="-1" strike="noStrike">
                <a:solidFill>
                  <a:srgbClr val="ff6699"/>
                </a:solidFill>
                <a:latin typeface="Comic Sans MS"/>
              </a:rPr>
              <a:t>kuzeyde</a:t>
            </a:r>
            <a:r>
              <a:rPr b="1" lang="tr-TR" sz="3200" spc="-1" strike="noStrike">
                <a:solidFill>
                  <a:srgbClr val="0066ff"/>
                </a:solidFill>
                <a:latin typeface="Comic Sans MS"/>
              </a:rPr>
              <a:t> bulunur. Geceleri açık havada kutup yıldızına bakarak yönler bulunabil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2819520" y="3048120"/>
            <a:ext cx="3962160" cy="3200400"/>
          </a:xfrm>
          <a:prstGeom prst="pi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21:11:53Z</dcterms:created>
  <dc:creator/>
  <dc:description/>
  <dc:language>en-US</dc:language>
  <cp:lastModifiedBy>BILGISAYAR</cp:lastModifiedBy>
  <dcterms:modified xsi:type="dcterms:W3CDTF">2012-12-23T07:53:04Z</dcterms:modified>
  <cp:revision>3</cp:revision>
  <dc:subject/>
  <dc:title>YAŞADIĞIMIZ YER</dc:title>
</cp:coreProperties>
</file>