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C665-FE63-43A8-A6EA-A6A86EDFF851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Hand Garde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9109-33DD-4585-B0D5-9A1C7F7D0778}" type="slidenum">
              <a:rPr b="0" lang="tr-T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5311-E751-4CAC-8219-66D62414D7B6}" type="slidenum">
              <a:rPr b="0" lang="tr-T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94D5-1A84-4524-A064-CE45337E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ADCE-6E67-4E96-9F60-8D7B2B4B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B495-FA70-4900-B514-6A5344A7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DC39-B0C7-4647-9B4B-752D0442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11599-1C74-4F62-B99F-26569DB1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55201-9B28-45F1-ABE2-04A3F6C1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C525E-8885-4E6F-9243-C4034736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0E3D0-E868-476C-8741-D2587270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FBFBF-0FBB-4F9D-BACC-2F6494D3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7DE50-5232-46DE-8846-5E9D7169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B48A9-881B-41BE-B33C-97EA03EA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3BC0-8ED2-457E-9CEB-3AF5333C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EB01F-8F77-49A8-B544-8A8BDFD1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99B2D-7E11-4AB3-8C6F-4EC5C348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3DD42-9C79-418A-B76E-455B112E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04AAC-1A17-4FD4-836A-5591F256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B3A98-CC86-4085-B95E-347021D1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AAF7F9-1DF5-422B-A644-CF65510E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436895-5E9F-45A6-8742-5E91C667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271357-07A3-4A8F-A2A4-96D84EA6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2D33C-2C2B-4935-B50D-8B4B5AF8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D987D7-8626-466D-B968-F0FCFA06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D2C1-3C19-47DB-BD98-8C5D2216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4FE0B8-4B30-40BB-AC18-DB832193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A4E4CF-4C81-4031-B930-CC33BE31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D0FD9E-3CD2-4FD8-8BC9-21D77E06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5BBBF7-F40F-4147-932D-94AC3574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2F4286-305E-47C2-AD31-6240072D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F8583F-5748-474C-B275-59570E4F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A584B1-D9B3-4945-BF46-F7020FCD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8CBD14-8B42-4C29-8FB4-3A119EF5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38C9DD-BD06-400D-8DF5-063229CA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375AFD-87E2-43BE-8CE1-66C281A8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6E38-DA92-4FE3-BF64-57CF3EC6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5D8993-B790-4A13-83BD-0C678257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0A602E-8967-4F3F-84DB-96EB830B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079A62-2688-487B-B5AE-AAE29AC0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570E06-07DD-4F37-B011-D4172DBB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2E0B31-17C3-4594-B7D2-45CC2F2A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8EC9AC-01A4-4390-808E-F019172E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92545E-5D18-4580-B351-C04E6830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7035AB-2C0F-4B60-896B-E9BBCBAC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9228DF-E6EE-4B4F-8AC2-F1082F71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753882-7300-4834-B844-040F0849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EC1A-3BDC-4236-A846-0022E2B8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F6A126-8A1C-4F70-A932-F5F8BF7C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596F06-DBFB-4EB9-8D51-BAC451B1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B13D0D-0C87-4875-9003-97B2B59B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04A80E-83A4-4BE4-B6EF-0AA9E716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530495-7C56-4F83-87BA-B394A7FF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5286A3-53C8-457A-8D3A-EA7745DE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601A6C-4114-4661-9B6D-53310E88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5C51BE-23A2-491A-B593-C791DEBA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2AB5EA-DDE8-4E57-92FE-CA6C8DA8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DBA68E-2B3B-4682-961F-4325A656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E0D0-FA44-4BCC-9295-9C74876F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55830D-A220-4D6C-9BE0-6A88911C3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44EE7E-2AA1-4748-91B7-24CB2912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2A3B0B-ED6B-457D-83A9-571A340B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4ECDD9-7081-492F-AE73-ECA3C376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0BFA40-BB2D-4228-B38B-5D191EA9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663AC2-7277-4CF6-A18B-13476409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87BFC1-B508-4350-B63D-5C56A06F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C9FD3F-86D2-418C-AD20-4455529E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A65BAD-2ADD-4582-975B-58DF305C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CD0C9B-218E-4075-9B77-41359109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16BF-E6CD-43C9-B77E-A09B00BE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B0FEB6-60F0-4D7A-8109-989AD110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320777-119F-4F88-BC5D-549BD29A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ED13D6-80D0-4EFC-ACE6-CC60B837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C732-496B-4821-BF56-FE14B3B8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805B-DAB7-4C6C-96D2-930DA308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01600" indent="-20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1" marL="549720" indent="-211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2" marL="845640" indent="-16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3" marL="1184040" indent="-168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4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200" spc="-1" strike="noStrike">
                <a:solidFill>
                  <a:srgbClr val="ffffff"/>
                </a:solidFill>
                <a:latin typeface="Hand Garde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A332-422B-4590-91CD-907E78D7BC4B}" type="datetime">
              <a:rPr b="1" lang="tr-TR" sz="1200" spc="-1" strike="noStrike">
                <a:solidFill>
                  <a:srgbClr val="ffffff"/>
                </a:solidFill>
                <a:latin typeface="Hand Garden"/>
              </a:rPr>
              <a:t>31.07.26</a:t>
            </a:fld>
            <a:endParaRPr b="1" lang="en-US" sz="1200" spc="-1" strike="noStrike">
              <a:solidFill>
                <a:srgbClr val="000000"/>
              </a:solidFill>
              <a:latin typeface="Hand Garde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200" spc="-1" strike="noStrike">
                <a:solidFill>
                  <a:srgbClr val="ffffff"/>
                </a:solidFill>
                <a:latin typeface="Hand Garde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8555-680F-46A3-AC63-C9B7116A49FB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Hand Garde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01600" indent="-20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1" marL="549720" indent="-211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2" marL="845640" indent="-16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3" marL="1184040" indent="-168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4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200" spc="-1" strike="noStrike">
                <a:solidFill>
                  <a:srgbClr val="ffffff"/>
                </a:solidFill>
                <a:latin typeface="Hand Garde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B22B-D970-4ADE-BFFF-17B1220E029F}" type="datetime">
              <a:rPr b="1" lang="tr-TR" sz="1200" spc="-1" strike="noStrike">
                <a:solidFill>
                  <a:srgbClr val="ffffff"/>
                </a:solidFill>
                <a:latin typeface="Hand Garden"/>
              </a:rPr>
              <a:t>31.07.26</a:t>
            </a:fld>
            <a:endParaRPr b="1" lang="en-US" sz="1200" spc="-1" strike="noStrike">
              <a:solidFill>
                <a:srgbClr val="000000"/>
              </a:solidFill>
              <a:latin typeface="Hand Garde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200" spc="-1" strike="noStrike">
                <a:solidFill>
                  <a:srgbClr val="ffffff"/>
                </a:solidFill>
                <a:latin typeface="Hand Garde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4B56-6C6D-489E-96BD-BC68AD6D51A2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Hand Garde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01600" indent="-20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1" marL="549720" indent="-211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2" marL="845640" indent="-16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3" marL="1184040" indent="-168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4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200" spc="-1" strike="noStrike">
                <a:solidFill>
                  <a:srgbClr val="ffffff"/>
                </a:solidFill>
                <a:latin typeface="Hand Garde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DEE4-FAD0-42DA-B165-AF77147406D1}" type="datetime">
              <a:rPr b="1" lang="tr-TR" sz="1200" spc="-1" strike="noStrike">
                <a:solidFill>
                  <a:srgbClr val="ffffff"/>
                </a:solidFill>
                <a:latin typeface="Hand Garden"/>
              </a:rPr>
              <a:t>31.07.26</a:t>
            </a:fld>
            <a:endParaRPr b="1" lang="en-US" sz="1200" spc="-1" strike="noStrike">
              <a:solidFill>
                <a:srgbClr val="000000"/>
              </a:solidFill>
              <a:latin typeface="Hand Garde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200" spc="-1" strike="noStrike">
                <a:solidFill>
                  <a:srgbClr val="ffffff"/>
                </a:solidFill>
                <a:latin typeface="Hand Garde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B559-5912-49F8-B1E7-2200D4D163E0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Hand Garde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01600" indent="-20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1" marL="549720" indent="-211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2" marL="845640" indent="-16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3" marL="1184040" indent="-168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4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200" spc="-1" strike="noStrike">
                <a:solidFill>
                  <a:srgbClr val="ffffff"/>
                </a:solidFill>
                <a:latin typeface="Hand Garde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851E-A10D-464B-9B39-B5EAB1CB0F16}" type="datetime">
              <a:rPr b="1" lang="tr-TR" sz="1200" spc="-1" strike="noStrike">
                <a:solidFill>
                  <a:srgbClr val="ffffff"/>
                </a:solidFill>
                <a:latin typeface="Hand Garden"/>
              </a:rPr>
              <a:t>31.07.26</a:t>
            </a:fld>
            <a:endParaRPr b="1" lang="en-US" sz="1200" spc="-1" strike="noStrike">
              <a:solidFill>
                <a:srgbClr val="000000"/>
              </a:solidFill>
              <a:latin typeface="Hand Garde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200" spc="-1" strike="noStrike">
                <a:solidFill>
                  <a:srgbClr val="ffffff"/>
                </a:solidFill>
                <a:latin typeface="Hand Garde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CBEF-F1B3-434F-A445-2B9D9788ABD3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Hand Garde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01600" indent="-20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1" marL="549720" indent="-211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2" marL="845640" indent="-16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3" marL="1184040" indent="-168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4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200" spc="-1" strike="noStrike">
                <a:solidFill>
                  <a:srgbClr val="ffffff"/>
                </a:solidFill>
                <a:latin typeface="Hand Garde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B864-DEB9-4473-919E-3DBA192D10A0}" type="datetime">
              <a:rPr b="1" lang="tr-TR" sz="1200" spc="-1" strike="noStrike">
                <a:solidFill>
                  <a:srgbClr val="ffffff"/>
                </a:solidFill>
                <a:latin typeface="Hand Garden"/>
              </a:rPr>
              <a:t>31.07.26</a:t>
            </a:fld>
            <a:endParaRPr b="1" lang="en-US" sz="1200" spc="-1" strike="noStrike">
              <a:solidFill>
                <a:srgbClr val="000000"/>
              </a:solidFill>
              <a:latin typeface="Hand Garde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200" spc="-1" strike="noStrike">
                <a:solidFill>
                  <a:srgbClr val="ffffff"/>
                </a:solidFill>
                <a:latin typeface="Hand Garde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12FA-7A41-4311-BD72-DB435E8A2805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Hand Garde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01600" indent="-20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1" marL="549720" indent="-211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2" marL="845640" indent="-16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3" marL="1184040" indent="-168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4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200" spc="-1" strike="noStrike">
                <a:solidFill>
                  <a:srgbClr val="ffffff"/>
                </a:solidFill>
                <a:latin typeface="Hand Garde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CF2F-1504-4DAE-932B-7ECE2EFCCEB7}" type="datetime">
              <a:rPr b="1" lang="tr-TR" sz="1200" spc="-1" strike="noStrike">
                <a:solidFill>
                  <a:srgbClr val="ffffff"/>
                </a:solidFill>
                <a:latin typeface="Hand Garden"/>
              </a:rPr>
              <a:t>31.07.26</a:t>
            </a:fld>
            <a:endParaRPr b="1" lang="en-US" sz="1200" spc="-1" strike="noStrike">
              <a:solidFill>
                <a:srgbClr val="000000"/>
              </a:solidFill>
              <a:latin typeface="Hand Garde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200" spc="-1" strike="noStrike">
                <a:solidFill>
                  <a:srgbClr val="ffffff"/>
                </a:solidFill>
                <a:latin typeface="Hand Garde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74E6-04BB-4438-840A-C014625C5F39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Hand Garde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20653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400" spc="-1" strike="noStrike">
                <a:solidFill>
                  <a:srgbClr val="ff0000"/>
                </a:solidFill>
                <a:latin typeface="Hand writing Mutlu"/>
              </a:rPr>
              <a:t>U</a:t>
            </a:r>
            <a:endParaRPr b="0" lang="en-US" sz="16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5994-D1C9-4E10-B640-1CED2D6CACE1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732720" y="1052640"/>
            <a:ext cx="18936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0" spc="-1" strike="noStrike">
                <a:solidFill>
                  <a:srgbClr val="3f3f3f"/>
                </a:solidFill>
                <a:latin typeface="Hand writing Mutlu"/>
              </a:rPr>
              <a:t>l</a:t>
            </a:r>
            <a:endParaRPr b="1" lang="en-US" sz="200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0389E-006 L 0.23368 0.49815 E">
                                      <p:cBhvr>
                                        <p:cTn id="18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3.14524E-007 L -0.29254 0.4926 E">
                                      <p:cBhvr>
                                        <p:cTn id="22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96760" y="622440"/>
            <a:ext cx="20685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400" spc="-1" strike="noStrike">
                <a:solidFill>
                  <a:srgbClr val="ff0000"/>
                </a:solidFill>
                <a:latin typeface="Hand writing Mutlu"/>
              </a:rPr>
              <a:t>M</a:t>
            </a:r>
            <a:endParaRPr b="0" lang="en-US" sz="16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3397-EE09-445A-8936-6494EE01C966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732720" y="1052640"/>
            <a:ext cx="18936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0" spc="-1" strike="noStrike">
                <a:solidFill>
                  <a:srgbClr val="3f3f3f"/>
                </a:solidFill>
                <a:latin typeface="Hand writing Mutlu"/>
              </a:rPr>
              <a:t>u</a:t>
            </a:r>
            <a:endParaRPr b="1" lang="en-US" sz="200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705 0.00509 L 0.13663 0.50312 E">
                                      <p:cBhvr>
                                        <p:cTn id="253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3.14524E-007 L -0.29254 0.4926 E">
                                      <p:cBhvr>
                                        <p:cTn id="257" dur="3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20653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400" spc="-1" strike="noStrike">
                <a:solidFill>
                  <a:srgbClr val="ff0000"/>
                </a:solidFill>
                <a:latin typeface="Hand writing Mutlu"/>
              </a:rPr>
              <a:t>U</a:t>
            </a:r>
            <a:endParaRPr b="0" lang="en-US" sz="16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238D-53AD-493B-A207-E769777A3255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5364000" y="476280"/>
            <a:ext cx="32623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0" spc="-1" strike="noStrike">
                <a:solidFill>
                  <a:srgbClr val="3f3f3f"/>
                </a:solidFill>
                <a:latin typeface="Hand writing Mutlu"/>
              </a:rPr>
              <a:t>lu</a:t>
            </a:r>
            <a:endParaRPr b="1" lang="en-US" sz="200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41 -0.00509 L 0.21528 0.49295 E">
                                      <p:cBhvr>
                                        <p:cTn id="279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205 -0.04185 L -0.14687 0.45063 E">
                                      <p:cBhvr>
                                        <p:cTn id="283" dur="3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20653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400" spc="-1" strike="noStrike">
                <a:solidFill>
                  <a:srgbClr val="ff0000"/>
                </a:solidFill>
                <a:latin typeface="Hand writing Mutlu"/>
              </a:rPr>
              <a:t>U</a:t>
            </a:r>
            <a:endParaRPr b="0" lang="en-US" sz="16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CBE9-4862-4F03-8309-C92494D5BD4C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4584600" y="1052640"/>
            <a:ext cx="45594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0" spc="-1" strike="noStrike">
                <a:solidFill>
                  <a:srgbClr val="3f3f3f"/>
                </a:solidFill>
                <a:latin typeface="Hand writing Mutlu"/>
              </a:rPr>
              <a:t>nu</a:t>
            </a:r>
            <a:endParaRPr b="1" lang="en-US" sz="200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143 -0.00509 L 0.15226 0.49295 E">
                                      <p:cBhvr>
                                        <p:cTn id="305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487 4.85549E-006 L -0.16406 0.49248 E">
                                      <p:cBhvr>
                                        <p:cTn id="309" dur="3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-360" y="692280"/>
            <a:ext cx="2808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400" spc="-1" strike="noStrike">
                <a:solidFill>
                  <a:srgbClr val="ff0000"/>
                </a:solidFill>
                <a:latin typeface="Hand writing Mutlu"/>
              </a:rPr>
              <a:t>OT</a:t>
            </a:r>
            <a:endParaRPr b="0" lang="en-US" sz="16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09C8-F422-4369-BF62-3055FC4B97EB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4716360" y="1052640"/>
            <a:ext cx="4427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0" spc="-1" strike="noStrike">
                <a:solidFill>
                  <a:srgbClr val="3f3f3f"/>
                </a:solidFill>
                <a:latin typeface="Hand writing Mutlu"/>
              </a:rPr>
              <a:t>lu</a:t>
            </a:r>
            <a:endParaRPr b="1" lang="en-US" sz="200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2 -0.00508 L 0.18646 0.49295 E">
                                      <p:cBhvr>
                                        <p:cTn id="331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487 4.85549E-006 L -0.16406 0.49248 E">
                                      <p:cBhvr>
                                        <p:cTn id="335" dur="3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622440"/>
            <a:ext cx="45007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400" spc="-1" strike="noStrike">
                <a:solidFill>
                  <a:srgbClr val="ff0000"/>
                </a:solidFill>
                <a:latin typeface="Hand writing Mutlu"/>
              </a:rPr>
              <a:t>MU</a:t>
            </a:r>
            <a:endParaRPr b="0" lang="en-US" sz="16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642F-5259-4638-9A72-33E35CBAA687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6732720" y="1052640"/>
            <a:ext cx="24112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0" spc="-1" strike="noStrike">
                <a:solidFill>
                  <a:srgbClr val="3f3f3f"/>
                </a:solidFill>
                <a:latin typeface="Hand writing Mutlu"/>
              </a:rPr>
              <a:t>m</a:t>
            </a:r>
            <a:endParaRPr b="1" lang="en-US" sz="200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757 0.00509 L 0.08611 0.50312 E">
                                      <p:cBhvr>
                                        <p:cTn id="357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52 4.85549E-006 L -0.21841 0.49248 E">
                                      <p:cBhvr>
                                        <p:cTn id="361" dur="3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5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24000" y="620640"/>
            <a:ext cx="45007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400" spc="-1" strike="noStrike">
                <a:solidFill>
                  <a:srgbClr val="ff0000"/>
                </a:solidFill>
                <a:latin typeface="Hand writing Mutlu"/>
              </a:rPr>
              <a:t>MU</a:t>
            </a:r>
            <a:endParaRPr b="0" lang="en-US" sz="16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6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ECB0-EBEB-4C34-B0DD-60CC8CA65652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4716360" y="1052640"/>
            <a:ext cx="4427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0" spc="-1" strike="noStrike">
                <a:solidFill>
                  <a:srgbClr val="3f3f3f"/>
                </a:solidFill>
                <a:latin typeface="Hand writing Mutlu"/>
              </a:rPr>
              <a:t>mu</a:t>
            </a:r>
            <a:endParaRPr b="1" lang="en-US" sz="200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757 0.00509 L 0.08611 0.50312 E">
                                      <p:cBhvr>
                                        <p:cTn id="383" dur="5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58 -0.01041 L -0.05312 0.48208 E">
                                      <p:cBhvr>
                                        <p:cTn id="387" dur="5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1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622440"/>
            <a:ext cx="298764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400" spc="-1" strike="noStrike">
                <a:solidFill>
                  <a:srgbClr val="ff0000"/>
                </a:solidFill>
                <a:latin typeface="Hand writing Mutlu"/>
              </a:rPr>
              <a:t>U</a:t>
            </a:r>
            <a:endParaRPr b="0" lang="en-US" sz="16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F135-3B40-48CB-B301-62CCA2954568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3635280" y="0"/>
            <a:ext cx="5508720" cy="28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0" spc="-1" strike="noStrike">
                <a:solidFill>
                  <a:srgbClr val="3f3f3f"/>
                </a:solidFill>
                <a:latin typeface="Hand writing Mutlu"/>
              </a:rPr>
              <a:t>mut</a:t>
            </a:r>
            <a:endParaRPr b="1" lang="en-US" sz="200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594 0.02613 L 0.09774 0.52416 E">
                                      <p:cBhvr>
                                        <p:cTn id="409" dur="5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619 0.09226 L -0.07274 0.58474 E">
                                      <p:cBhvr>
                                        <p:cTn id="413" dur="5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7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21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622440"/>
            <a:ext cx="457200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5000" spc="-1" strike="noStrike">
                <a:solidFill>
                  <a:srgbClr val="ff0000"/>
                </a:solidFill>
                <a:latin typeface="Hand writing Mutlu"/>
              </a:rPr>
              <a:t>MUT</a:t>
            </a:r>
            <a:endParaRPr b="0" lang="en-US" sz="15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C3F0-FA37-4CF2-8217-726C391C3612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6732720" y="1052640"/>
            <a:ext cx="24112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5000" spc="-1" strike="noStrike">
                <a:solidFill>
                  <a:srgbClr val="3f3f3f"/>
                </a:solidFill>
                <a:latin typeface="Hand writing Mutlu"/>
              </a:rPr>
              <a:t>lu</a:t>
            </a:r>
            <a:endParaRPr b="1" lang="en-US" sz="150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757 0.00509 L 0.08611 0.50312 E">
                                      <p:cBhvr>
                                        <p:cTn id="439" dur="5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52 4.85549E-006 L -0.21841 0.49248 E">
                                      <p:cBhvr>
                                        <p:cTn id="443" dur="5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7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50560" y="2421000"/>
            <a:ext cx="3600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ccff33"/>
                </a:solidFill>
                <a:latin typeface="Hand writing Mutlu"/>
              </a:rPr>
              <a:t>UMUT</a:t>
            </a:r>
            <a:endParaRPr b="0" lang="en-US" sz="10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A83B-466B-4E72-93F5-CA420E5AEAD3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4067280" y="2852640"/>
            <a:ext cx="25923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ff3300"/>
                </a:solidFill>
                <a:latin typeface="Hand writing Mutlu"/>
              </a:rPr>
              <a:t>olta</a:t>
            </a:r>
            <a:endParaRPr b="1" lang="en-US" sz="100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6300720" y="2492280"/>
            <a:ext cx="31672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33cc33"/>
                </a:solidFill>
                <a:latin typeface="Hand writing Mutlu"/>
              </a:rPr>
              <a:t>al.</a:t>
            </a:r>
            <a:endParaRPr b="1" lang="en-US" sz="100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252720" y="2421000"/>
            <a:ext cx="3600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ccff33"/>
                </a:solidFill>
                <a:latin typeface="Hand writing Mutlu"/>
              </a:rPr>
              <a:t>UMUT</a:t>
            </a:r>
            <a:endParaRPr b="0" lang="en-US" sz="8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679C-E5A8-4231-8110-D44B947CF91D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3132000" y="2852640"/>
            <a:ext cx="38163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ff0000"/>
                </a:solidFill>
                <a:latin typeface="Hand writing Mutlu"/>
              </a:rPr>
              <a:t>mumu</a:t>
            </a:r>
            <a:endParaRPr b="1" lang="en-US" sz="88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6659640" y="2565360"/>
            <a:ext cx="31669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595959"/>
                </a:solidFill>
                <a:latin typeface="Hand writing Mutlu"/>
              </a:rPr>
              <a:t>tut.</a:t>
            </a:r>
            <a:endParaRPr b="1" lang="en-US" sz="88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14560" y="837720"/>
            <a:ext cx="2162160" cy="2519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400" spc="-1" strike="noStrike">
                <a:solidFill>
                  <a:srgbClr val="ff0000"/>
                </a:solidFill>
                <a:latin typeface="Hand writing Mutlu"/>
              </a:rPr>
              <a:t>U</a:t>
            </a:r>
            <a:endParaRPr b="0" lang="en-US" sz="16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1787-AF57-4CBF-A08D-E564B9FEB1C2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5651640" y="1052640"/>
            <a:ext cx="23763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0" spc="-1" strike="noStrike">
                <a:solidFill>
                  <a:srgbClr val="3f3f3f"/>
                </a:solidFill>
                <a:latin typeface="Hand writing Mutlu"/>
              </a:rPr>
              <a:t>t</a:t>
            </a:r>
            <a:endParaRPr b="1" lang="en-US" sz="200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281E-006 L 0.17327 0.41444 E">
                                      <p:cBhvr>
                                        <p:cTn id="45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14524E-007 L -0.2007 0.43016 E">
                                      <p:cBhvr>
                                        <p:cTn id="49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39625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400" spc="-1" strike="noStrike">
                <a:solidFill>
                  <a:srgbClr val="ff0000"/>
                </a:solidFill>
                <a:latin typeface="Hand writing Mutlu"/>
              </a:rPr>
              <a:t>NU</a:t>
            </a:r>
            <a:endParaRPr b="0" lang="en-US" sz="16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C481-E4BC-4BD5-95CA-7999E53372A4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364000" y="1197000"/>
            <a:ext cx="31896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0" spc="-1" strike="noStrike">
                <a:solidFill>
                  <a:srgbClr val="3f3f3f"/>
                </a:solidFill>
                <a:latin typeface="Hand writing Mutlu"/>
              </a:rPr>
              <a:t>r</a:t>
            </a:r>
            <a:endParaRPr b="1" lang="en-US" sz="200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80389E-006 L 0.14983 0.45629 E">
                                      <p:cBhvr>
                                        <p:cTn id="540" dur="3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284E-006 L -0.12709 0.43039 E">
                                      <p:cBhvr>
                                        <p:cTn id="544" dur="5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0920" y="2421000"/>
            <a:ext cx="29527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ccff33"/>
                </a:solidFill>
                <a:latin typeface="Hand writing Mutlu"/>
              </a:rPr>
              <a:t>NUR</a:t>
            </a:r>
            <a:endParaRPr b="0" lang="en-US" sz="8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1B5E-4763-4B67-B656-E13757EA6D6D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3492360" y="2852640"/>
            <a:ext cx="2448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ff0066"/>
                </a:solidFill>
                <a:latin typeface="Hand writing Mutlu"/>
              </a:rPr>
              <a:t>unu</a:t>
            </a:r>
            <a:r>
              <a:rPr b="0" lang="tr-TR" sz="8800" spc="-1" strike="noStrike">
                <a:solidFill>
                  <a:srgbClr val="3f3f3f"/>
                </a:solidFill>
                <a:latin typeface="Hand writing Mutlu"/>
              </a:rPr>
              <a:t> </a:t>
            </a:r>
            <a:endParaRPr b="1" lang="en-US" sz="88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5724360" y="2421000"/>
            <a:ext cx="3168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7c959a"/>
                </a:solidFill>
                <a:latin typeface="Hand writing Mutlu"/>
              </a:rPr>
              <a:t>ele.</a:t>
            </a:r>
            <a:r>
              <a:rPr b="0" lang="tr-TR" sz="8800" spc="-1" strike="noStrike">
                <a:solidFill>
                  <a:srgbClr val="3f3f3f"/>
                </a:solidFill>
                <a:latin typeface="Hand writing Mutlu"/>
              </a:rPr>
              <a:t> </a:t>
            </a:r>
            <a:endParaRPr b="1" lang="en-US" sz="88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3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4920" y="2421000"/>
            <a:ext cx="3600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ff0066"/>
                </a:solidFill>
                <a:latin typeface="Hand writing Mutlu"/>
              </a:rPr>
              <a:t>UMUT</a:t>
            </a:r>
            <a:endParaRPr b="0" lang="en-US" sz="8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5F39-6F40-4B1F-98EF-FE6CC94F6D3A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3780000" y="2852640"/>
            <a:ext cx="1800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7c959a"/>
                </a:solidFill>
                <a:latin typeface="Hand writing Mutlu"/>
              </a:rPr>
              <a:t>ile</a:t>
            </a:r>
            <a:r>
              <a:rPr b="0" lang="tr-TR" sz="8800" spc="-1" strike="noStrike">
                <a:solidFill>
                  <a:srgbClr val="3f3f3f"/>
                </a:solidFill>
                <a:latin typeface="Hand writing Mutlu"/>
              </a:rPr>
              <a:t> </a:t>
            </a:r>
            <a:endParaRPr b="1" lang="en-US" sz="88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468360" y="4338720"/>
            <a:ext cx="40323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33cc33"/>
                </a:solidFill>
                <a:latin typeface="Hand writing Mutlu"/>
              </a:rPr>
              <a:t>mutlu.</a:t>
            </a:r>
            <a:endParaRPr b="1" lang="en-US" sz="88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5724360" y="2421000"/>
            <a:ext cx="3168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ff0000"/>
                </a:solidFill>
                <a:latin typeface="Hand writing Mutlu"/>
              </a:rPr>
              <a:t>Nur</a:t>
            </a:r>
            <a:r>
              <a:rPr b="0" lang="tr-TR" sz="8800" spc="-1" strike="noStrike">
                <a:solidFill>
                  <a:srgbClr val="3f3f3f"/>
                </a:solidFill>
                <a:latin typeface="Hand writing Mutlu"/>
              </a:rPr>
              <a:t> </a:t>
            </a:r>
            <a:endParaRPr b="1" lang="en-US" sz="88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181440" y="620640"/>
            <a:ext cx="2808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400" spc="-1" strike="noStrike">
                <a:solidFill>
                  <a:srgbClr val="ff0000"/>
                </a:solidFill>
                <a:latin typeface="Hand writing Mutlu"/>
              </a:rPr>
              <a:t>O</a:t>
            </a:r>
            <a:endParaRPr b="0" lang="en-US" sz="16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EB10-CBE7-41DC-9EF0-8004F7F5B054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3938760" y="1197000"/>
            <a:ext cx="52052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0" spc="-1" strike="noStrike">
                <a:solidFill>
                  <a:srgbClr val="3f3f3f"/>
                </a:solidFill>
                <a:latin typeface="Hand writing Mutlu"/>
              </a:rPr>
              <a:t>nur</a:t>
            </a:r>
            <a:endParaRPr b="1" lang="en-US" sz="200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3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80389E-006 L 0.14983 0.45629 E">
                                      <p:cBhvr>
                                        <p:cTn id="637" dur="3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146 -0.01041 L -0.06563 0.41988 E">
                                      <p:cBhvr>
                                        <p:cTn id="641" dur="5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4920" y="2421000"/>
            <a:ext cx="3600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ccff33"/>
                </a:solidFill>
                <a:latin typeface="Hand writing Mutlu"/>
              </a:rPr>
              <a:t>ONUR</a:t>
            </a:r>
            <a:r>
              <a:rPr b="0" lang="tr-TR" sz="8800" spc="-1" strike="noStrike">
                <a:solidFill>
                  <a:srgbClr val="3f3f3f"/>
                </a:solidFill>
                <a:latin typeface="Hand writing Mutlu"/>
              </a:rPr>
              <a:t> </a:t>
            </a:r>
            <a:endParaRPr b="0" lang="en-US" sz="8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D995-270E-4467-82CA-033920A40CC9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4067280" y="2781360"/>
            <a:ext cx="27352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ff3300"/>
                </a:solidFill>
                <a:latin typeface="Hand writing Mutlu"/>
              </a:rPr>
              <a:t>unu</a:t>
            </a:r>
            <a:r>
              <a:rPr b="0" lang="tr-TR" sz="8800" spc="-1" strike="noStrike">
                <a:solidFill>
                  <a:srgbClr val="3f3f3f"/>
                </a:solidFill>
                <a:latin typeface="Hand writing Mutlu"/>
              </a:rPr>
              <a:t> </a:t>
            </a:r>
            <a:endParaRPr b="1" lang="en-US" sz="88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6372360" y="2276640"/>
            <a:ext cx="31683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0079a4"/>
                </a:solidFill>
                <a:latin typeface="Hand writing Mutlu"/>
              </a:rPr>
              <a:t>elle.</a:t>
            </a:r>
            <a:r>
              <a:rPr b="0" lang="tr-TR" sz="8800" spc="-1" strike="noStrike">
                <a:solidFill>
                  <a:srgbClr val="3f3f3f"/>
                </a:solidFill>
                <a:latin typeface="Hand writing Mutlu"/>
              </a:rPr>
              <a:t> </a:t>
            </a:r>
            <a:endParaRPr b="1" lang="en-US" sz="88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5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5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4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39625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400" spc="-1" strike="noStrike">
                <a:solidFill>
                  <a:srgbClr val="ff0000"/>
                </a:solidFill>
                <a:latin typeface="Hand writing Mutlu"/>
              </a:rPr>
              <a:t>MA</a:t>
            </a:r>
            <a:endParaRPr b="0" lang="en-US" sz="16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C10F-B9FD-493D-8D1A-DE1C6E327DA1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5219640" y="1125360"/>
            <a:ext cx="318924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0" spc="-1" strike="noStrike">
                <a:solidFill>
                  <a:srgbClr val="3f3f3f"/>
                </a:solidFill>
                <a:latin typeface="Hand writing Mutlu"/>
              </a:rPr>
              <a:t>l</a:t>
            </a:r>
            <a:endParaRPr b="1" lang="en-US" sz="200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80389E-006 L 0.14983 0.45629 E">
                                      <p:cBhvr>
                                        <p:cTn id="690" dur="3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284E-006 L -0.12709 0.43039 E">
                                      <p:cBhvr>
                                        <p:cTn id="694" dur="5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8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4920" y="2421000"/>
            <a:ext cx="3600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ff3300"/>
                </a:solidFill>
                <a:latin typeface="Hand writing Mutlu"/>
              </a:rPr>
              <a:t>ONUR</a:t>
            </a:r>
            <a:r>
              <a:rPr b="0" lang="tr-TR" sz="8800" spc="-1" strike="noStrike">
                <a:solidFill>
                  <a:srgbClr val="3f3f3f"/>
                </a:solidFill>
                <a:latin typeface="Hand writing Mutlu"/>
              </a:rPr>
              <a:t> </a:t>
            </a:r>
            <a:endParaRPr b="0" lang="en-US" sz="8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1C05-12E0-468E-BAE7-5C321B04621F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4067280" y="2781360"/>
            <a:ext cx="27352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ccff33"/>
                </a:solidFill>
                <a:latin typeface="Hand writing Mutlu"/>
              </a:rPr>
              <a:t>mal</a:t>
            </a:r>
            <a:r>
              <a:rPr b="0" lang="tr-TR" sz="8800" spc="-1" strike="noStrike">
                <a:solidFill>
                  <a:srgbClr val="3f3f3f"/>
                </a:solidFill>
                <a:latin typeface="Hand writing Mutlu"/>
              </a:rPr>
              <a:t> </a:t>
            </a:r>
            <a:endParaRPr b="1" lang="en-US" sz="88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6372360" y="2276640"/>
            <a:ext cx="31683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ff3300"/>
                </a:solidFill>
                <a:latin typeface="Hand writing Mutlu"/>
              </a:rPr>
              <a:t>al.</a:t>
            </a:r>
            <a:r>
              <a:rPr b="0" lang="tr-TR" sz="8800" spc="-1" strike="noStrike">
                <a:solidFill>
                  <a:srgbClr val="3f3f3f"/>
                </a:solidFill>
                <a:latin typeface="Hand writing Mutlu"/>
              </a:rPr>
              <a:t> </a:t>
            </a:r>
            <a:endParaRPr b="1" lang="en-US" sz="88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39625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400" spc="-1" strike="noStrike">
                <a:solidFill>
                  <a:srgbClr val="ff0000"/>
                </a:solidFill>
                <a:latin typeface="Hand writing Mutlu"/>
              </a:rPr>
              <a:t>MA</a:t>
            </a:r>
            <a:endParaRPr b="0" lang="en-US" sz="16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3659-8839-4BCD-9CD4-5D9DBC2B0E17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5954760" y="1125360"/>
            <a:ext cx="318924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0" spc="-1" strike="noStrike">
                <a:solidFill>
                  <a:srgbClr val="3f3f3f"/>
                </a:solidFill>
                <a:latin typeface="Hand writing Mutlu"/>
              </a:rPr>
              <a:t>la</a:t>
            </a:r>
            <a:endParaRPr b="1" lang="en-US" sz="200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80389E-006 L 0.14983 0.45629 E">
                                      <p:cBhvr>
                                        <p:cTn id="755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284E-006 L -0.12709 0.43039 E">
                                      <p:cBhvr>
                                        <p:cTn id="759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360" y="2421000"/>
            <a:ext cx="3600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ff0000"/>
                </a:solidFill>
                <a:latin typeface="Hand writing Mutlu"/>
              </a:rPr>
              <a:t>UMUT</a:t>
            </a:r>
            <a:endParaRPr b="0" lang="en-US" sz="8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0099-45B9-47BE-9F7C-1E338B31427B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6588000" y="2708280"/>
            <a:ext cx="30243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ff3300"/>
                </a:solidFill>
                <a:latin typeface="Hand writing Mutlu"/>
              </a:rPr>
              <a:t>tut</a:t>
            </a:r>
            <a:r>
              <a:rPr b="0" lang="tr-TR" sz="8800" spc="-1" strike="noStrike">
                <a:solidFill>
                  <a:srgbClr val="3f3f3f"/>
                </a:solidFill>
                <a:latin typeface="Hand writing Mutlu"/>
              </a:rPr>
              <a:t>.</a:t>
            </a:r>
            <a:endParaRPr b="1" lang="en-US" sz="88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3492360" y="2276640"/>
            <a:ext cx="316872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ccff33"/>
                </a:solidFill>
                <a:latin typeface="Hand writing Mutlu"/>
              </a:rPr>
              <a:t>mala</a:t>
            </a:r>
            <a:r>
              <a:rPr b="0" lang="tr-TR" sz="8800" spc="-1" strike="noStrike">
                <a:solidFill>
                  <a:srgbClr val="3f3f3f"/>
                </a:solidFill>
                <a:latin typeface="Hand writing Mutlu"/>
              </a:rPr>
              <a:t> </a:t>
            </a:r>
            <a:endParaRPr b="1" lang="en-US" sz="88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39625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400" spc="-1" strike="noStrike">
                <a:solidFill>
                  <a:srgbClr val="ff0000"/>
                </a:solidFill>
                <a:latin typeface="Hand writing Mutlu"/>
              </a:rPr>
              <a:t>TU</a:t>
            </a:r>
            <a:endParaRPr b="0" lang="en-US" sz="16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3C28-DC77-4831-BB04-82D11F60A081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5364000" y="1125360"/>
            <a:ext cx="257832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0" spc="-1" strike="noStrike">
                <a:solidFill>
                  <a:srgbClr val="3f3f3f"/>
                </a:solidFill>
                <a:latin typeface="Hand writing Mutlu"/>
              </a:rPr>
              <a:t>r</a:t>
            </a:r>
            <a:endParaRPr b="1" lang="en-US" sz="200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80389E-006 L 0.14983 0.45629 E">
                                      <p:cBhvr>
                                        <p:cTn id="804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284E-006 L -0.12709 0.43039 E">
                                      <p:cBhvr>
                                        <p:cTn id="808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20685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400" spc="-1" strike="noStrike">
                <a:solidFill>
                  <a:srgbClr val="ff0000"/>
                </a:solidFill>
                <a:latin typeface="Hand writing Mutlu"/>
              </a:rPr>
              <a:t>U</a:t>
            </a:r>
            <a:endParaRPr b="0" lang="en-US" sz="16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5AAC-A8E7-4375-8D87-8E1FDA63EB9E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6948360" y="1052640"/>
            <a:ext cx="18939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0" spc="-1" strike="noStrike">
                <a:solidFill>
                  <a:srgbClr val="3f3f3f"/>
                </a:solidFill>
                <a:latin typeface="Hand writing Mutlu"/>
              </a:rPr>
              <a:t>n</a:t>
            </a:r>
            <a:endParaRPr b="1" lang="en-US" sz="200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0389E-006 L 0.23368 0.49815 E">
                                      <p:cBhvr>
                                        <p:cTn id="71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3.14524E-007 L -0.29254 0.4926 E">
                                      <p:cBhvr>
                                        <p:cTn id="75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2421000"/>
            <a:ext cx="252108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ff3300"/>
                </a:solidFill>
                <a:latin typeface="Hand writing Mutlu"/>
              </a:rPr>
              <a:t>EROL</a:t>
            </a:r>
            <a:endParaRPr b="0" lang="en-US" sz="8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5799-9842-4B20-8F64-71A503989383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2987640" y="2852640"/>
            <a:ext cx="1440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3f3f3f"/>
                </a:solidFill>
                <a:latin typeface="Hand writing Mutlu"/>
              </a:rPr>
              <a:t>2 </a:t>
            </a:r>
            <a:endParaRPr b="1" lang="en-US" sz="88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7093080" y="2781360"/>
            <a:ext cx="172692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ff0000"/>
                </a:solidFill>
                <a:latin typeface="Hand writing Mutlu"/>
              </a:rPr>
              <a:t>at.</a:t>
            </a:r>
            <a:endParaRPr b="1" lang="en-US" sz="88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4356000" y="2349360"/>
            <a:ext cx="2664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ccff33"/>
                </a:solidFill>
                <a:latin typeface="Hand writing Mutlu"/>
              </a:rPr>
              <a:t>tur</a:t>
            </a:r>
            <a:r>
              <a:rPr b="0" lang="tr-TR" sz="8800" spc="-1" strike="noStrike">
                <a:solidFill>
                  <a:srgbClr val="3f3f3f"/>
                </a:solidFill>
                <a:latin typeface="Hand writing Mutlu"/>
              </a:rPr>
              <a:t> </a:t>
            </a:r>
            <a:endParaRPr b="1" lang="en-US" sz="88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4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4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39625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400" spc="-1" strike="noStrike">
                <a:solidFill>
                  <a:srgbClr val="ff0000"/>
                </a:solidFill>
                <a:latin typeface="Hand writing Mutlu"/>
              </a:rPr>
              <a:t>TUR</a:t>
            </a:r>
            <a:endParaRPr b="0" lang="en-US" sz="16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00E9-CEDC-43A1-B03B-8DF2C9FF5E6E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6084720" y="1125360"/>
            <a:ext cx="305928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0" spc="-1" strike="noStrike">
                <a:solidFill>
                  <a:srgbClr val="3f3f3f"/>
                </a:solidFill>
                <a:latin typeface="Hand writing Mutlu"/>
              </a:rPr>
              <a:t>la</a:t>
            </a:r>
            <a:endParaRPr b="1" lang="en-US" sz="200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80389E-006 L 0.14983 0.45629 E">
                                      <p:cBhvr>
                                        <p:cTn id="867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284E-006 L -0.12709 0.43039 E">
                                      <p:cBhvr>
                                        <p:cTn id="871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5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-360" y="2637000"/>
            <a:ext cx="3492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ccff33"/>
                </a:solidFill>
                <a:latin typeface="Hand writing Mutlu"/>
              </a:rPr>
              <a:t>TURLA</a:t>
            </a:r>
            <a:endParaRPr b="0" lang="en-US" sz="8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FD47-1F07-451B-A049-DE96AEB3116C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5867280" y="3068640"/>
            <a:ext cx="3672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ccff33"/>
                </a:solidFill>
                <a:latin typeface="Hand writing Mutlu"/>
              </a:rPr>
              <a:t>turla</a:t>
            </a:r>
            <a:r>
              <a:rPr b="0" lang="tr-TR" sz="8800" spc="-1" strike="noStrike">
                <a:solidFill>
                  <a:srgbClr val="3f3f3f"/>
                </a:solidFill>
                <a:latin typeface="Hand writing Mutlu"/>
              </a:rPr>
              <a:t>. </a:t>
            </a:r>
            <a:endParaRPr b="1" lang="en-US" sz="88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3203640" y="2492280"/>
            <a:ext cx="3058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ff0000"/>
                </a:solidFill>
                <a:latin typeface="Hand writing Mutlu"/>
              </a:rPr>
              <a:t>Erol</a:t>
            </a:r>
            <a:r>
              <a:rPr b="0" lang="tr-TR" sz="8800" spc="-1" strike="noStrike">
                <a:solidFill>
                  <a:srgbClr val="3f3f3f"/>
                </a:solidFill>
                <a:latin typeface="Hand writing Mutlu"/>
              </a:rPr>
              <a:t> </a:t>
            </a:r>
            <a:endParaRPr b="1" lang="en-US" sz="88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3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2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2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208908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400" spc="-1" strike="noStrike">
                <a:solidFill>
                  <a:srgbClr val="ff0000"/>
                </a:solidFill>
                <a:latin typeface="Hand writing Mutlu"/>
              </a:rPr>
              <a:t>O</a:t>
            </a:r>
            <a:endParaRPr b="0" lang="en-US" sz="16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15F0-3F55-4C83-91AC-201E578A4830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4211640" y="1125360"/>
            <a:ext cx="457200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0" spc="-1" strike="noStrike">
                <a:solidFill>
                  <a:srgbClr val="3f3f3f"/>
                </a:solidFill>
                <a:latin typeface="Hand writing Mutlu"/>
              </a:rPr>
              <a:t>tur</a:t>
            </a:r>
            <a:endParaRPr b="1" lang="en-US" sz="200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80389E-006 L 0.14983 0.45629 E">
                                      <p:cBhvr>
                                        <p:cTn id="919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284E-006 L -0.12709 0.43039 E">
                                      <p:cBhvr>
                                        <p:cTn id="923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24000" y="2637000"/>
            <a:ext cx="34927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33cc33"/>
                </a:solidFill>
                <a:latin typeface="Hand writing Mutlu"/>
              </a:rPr>
              <a:t>OTUR</a:t>
            </a:r>
            <a:endParaRPr b="0" lang="en-US" sz="8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43C6-B1F5-4A7E-9DA4-0CD2158F96B0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6300720" y="3068640"/>
            <a:ext cx="32385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33cc33"/>
                </a:solidFill>
                <a:latin typeface="Hand writing Mutlu"/>
              </a:rPr>
              <a:t>otur</a:t>
            </a:r>
            <a:r>
              <a:rPr b="0" lang="tr-TR" sz="8800" spc="-1" strike="noStrike">
                <a:solidFill>
                  <a:srgbClr val="3f3f3f"/>
                </a:solidFill>
                <a:latin typeface="Hand writing Mutlu"/>
              </a:rPr>
              <a:t>. </a:t>
            </a:r>
            <a:endParaRPr b="1" lang="en-US" sz="88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2987640" y="2492280"/>
            <a:ext cx="3384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ff0000"/>
                </a:solidFill>
                <a:latin typeface="Hand writing Mutlu"/>
              </a:rPr>
              <a:t>Onur</a:t>
            </a:r>
            <a:r>
              <a:rPr b="0" lang="tr-TR" sz="8800" spc="-1" strike="noStrike">
                <a:solidFill>
                  <a:srgbClr val="3f3f3f"/>
                </a:solidFill>
                <a:latin typeface="Hand writing Mutlu"/>
              </a:rPr>
              <a:t> </a:t>
            </a:r>
            <a:endParaRPr b="1" lang="en-US" sz="88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208908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400" spc="-1" strike="noStrike">
                <a:solidFill>
                  <a:srgbClr val="ff0000"/>
                </a:solidFill>
                <a:latin typeface="Hand writing Mutlu"/>
              </a:rPr>
              <a:t>O</a:t>
            </a:r>
            <a:endParaRPr b="0" lang="en-US" sz="16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F674-B6E5-461B-A81D-946BE98B4AD2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4211640" y="1125360"/>
            <a:ext cx="457200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0" spc="-1" strike="noStrike">
                <a:solidFill>
                  <a:srgbClr val="3f3f3f"/>
                </a:solidFill>
                <a:latin typeface="Hand writing Mutlu"/>
              </a:rPr>
              <a:t>lur</a:t>
            </a:r>
            <a:endParaRPr b="1" lang="en-US" sz="200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80389E-006 L 0.14983 0.45629 E">
                                      <p:cBhvr>
                                        <p:cTn id="982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284E-006 L -0.12709 0.43039 E">
                                      <p:cBhvr>
                                        <p:cTn id="986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0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468720" y="2565000"/>
            <a:ext cx="410364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ff3300"/>
                </a:solidFill>
                <a:latin typeface="Hand writing Mutlu"/>
              </a:rPr>
              <a:t>TARLA</a:t>
            </a:r>
            <a:endParaRPr b="0" lang="en-US" sz="8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4F5A-9A68-4E2F-83A8-2BE4A71F43D4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3492360" y="2565360"/>
            <a:ext cx="266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33cc33"/>
                </a:solidFill>
                <a:latin typeface="Hand writing Mutlu"/>
              </a:rPr>
              <a:t>otlu</a:t>
            </a:r>
            <a:endParaRPr b="1" lang="en-US" sz="88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6156360" y="2565360"/>
            <a:ext cx="338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ff0066"/>
                </a:solidFill>
                <a:latin typeface="Hand writing Mutlu"/>
              </a:rPr>
              <a:t>olur.</a:t>
            </a:r>
            <a:endParaRPr b="1" lang="en-US" sz="100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D29C-EBEF-4DC4-AAF8-9B63E9EF27EA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900000" y="189000"/>
            <a:ext cx="1656000" cy="66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ul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ut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un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um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ur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uk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3492360" y="173160"/>
            <a:ext cx="2159280" cy="13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lu              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tu                                                                                                      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nu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mu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ru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ku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6012000" y="173160"/>
            <a:ext cx="2881080" cy="119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ulu              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unu                                                                                                      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unlu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mum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mumu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mumlu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3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3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E8F8-B552-4B66-A7F6-876536B4D2E0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250920" y="189000"/>
            <a:ext cx="2736720" cy="66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otlu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mutlu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tur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turla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otur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oturma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3492360" y="173160"/>
            <a:ext cx="3024360" cy="119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Nur              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Onur                                                                                                      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Umut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Murat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otlu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olur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6659640" y="289080"/>
            <a:ext cx="2881080" cy="119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kum             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kumlu                                                                                                      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kul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kur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kuru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ccff33"/>
              </a:buClr>
              <a:buFont typeface="Hand writing Mutl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ccff33"/>
                </a:solidFill>
                <a:latin typeface="Hand writing Mutlu"/>
              </a:rPr>
              <a:t>kulak</a:t>
            </a:r>
            <a:endParaRPr b="1" lang="en-US" sz="50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3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3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3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3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3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3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3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3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3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3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30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30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3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3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96760" y="622440"/>
            <a:ext cx="20685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400" spc="-1" strike="noStrike">
                <a:solidFill>
                  <a:srgbClr val="ff0000"/>
                </a:solidFill>
                <a:latin typeface="Hand writing Mutlu"/>
              </a:rPr>
              <a:t>U</a:t>
            </a:r>
            <a:endParaRPr b="0" lang="en-US" sz="16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76E1-7F3E-4C55-BB02-83A3561793D2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6732720" y="1052640"/>
            <a:ext cx="18936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0" spc="-1" strike="noStrike">
                <a:solidFill>
                  <a:srgbClr val="3f3f3f"/>
                </a:solidFill>
                <a:latin typeface="Hand writing Mutlu"/>
              </a:rPr>
              <a:t>r</a:t>
            </a:r>
            <a:endParaRPr b="1" lang="en-US" sz="200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65 0.00509 L 0.18403 0.50312 E">
                                      <p:cBhvr>
                                        <p:cTn id="97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5549E-006 L -0.26892 0.49248 E">
                                      <p:cBhvr>
                                        <p:cTn id="101" dur="3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96760" y="622440"/>
            <a:ext cx="20685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400" spc="-1" strike="noStrike">
                <a:solidFill>
                  <a:srgbClr val="ff0000"/>
                </a:solidFill>
                <a:latin typeface="Hand writing Mutlu"/>
              </a:rPr>
              <a:t>U</a:t>
            </a:r>
            <a:endParaRPr b="0" lang="en-US" sz="16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0E44-87A4-4192-880F-16ACBDE271F5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6732720" y="1052640"/>
            <a:ext cx="24112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0" spc="-1" strike="noStrike">
                <a:solidFill>
                  <a:srgbClr val="3f3f3f"/>
                </a:solidFill>
                <a:latin typeface="Hand writing Mutlu"/>
              </a:rPr>
              <a:t>m</a:t>
            </a:r>
            <a:endParaRPr b="1" lang="en-US" sz="200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03 0.00509 L 0.19965 0.50312 E">
                                      <p:cBhvr>
                                        <p:cTn id="123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92 4.85549E-006 L -0.25 0.49248 E">
                                      <p:cBhvr>
                                        <p:cTn id="127" dur="3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96760" y="622440"/>
            <a:ext cx="20685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400" spc="-1" strike="noStrike">
                <a:solidFill>
                  <a:srgbClr val="ff0000"/>
                </a:solidFill>
                <a:latin typeface="Hand writing Mutlu"/>
              </a:rPr>
              <a:t>L</a:t>
            </a:r>
            <a:endParaRPr b="0" lang="en-US" sz="16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9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5641-B4F4-4BBE-98AA-AE6A93860260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6732720" y="1052640"/>
            <a:ext cx="18936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0" spc="-1" strike="noStrike">
                <a:solidFill>
                  <a:srgbClr val="3f3f3f"/>
                </a:solidFill>
                <a:latin typeface="Hand writing Mutlu"/>
              </a:rPr>
              <a:t>u</a:t>
            </a:r>
            <a:endParaRPr b="1" lang="en-US" sz="200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84 0.00509 L 0.19184 0.50312 E">
                                      <p:cBhvr>
                                        <p:cTn id="149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3.14524E-007 L -0.29254 0.4926 E">
                                      <p:cBhvr>
                                        <p:cTn id="153" dur="3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96760" y="622440"/>
            <a:ext cx="20685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400" spc="-1" strike="noStrike">
                <a:solidFill>
                  <a:srgbClr val="ff0000"/>
                </a:solidFill>
                <a:latin typeface="Hand writing Mutlu"/>
              </a:rPr>
              <a:t>T</a:t>
            </a:r>
            <a:endParaRPr b="0" lang="en-US" sz="16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60DE-8E9C-453A-8BE6-161B5816D172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732720" y="1052640"/>
            <a:ext cx="18936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0" spc="-1" strike="noStrike">
                <a:solidFill>
                  <a:srgbClr val="3f3f3f"/>
                </a:solidFill>
                <a:latin typeface="Hand writing Mutlu"/>
              </a:rPr>
              <a:t>u</a:t>
            </a:r>
            <a:endParaRPr b="1" lang="en-US" sz="200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84 0.00509 L 0.19184 0.50312 E">
                                      <p:cBhvr>
                                        <p:cTn id="175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3.14524E-007 L -0.29254 0.4926 E">
                                      <p:cBhvr>
                                        <p:cTn id="179" dur="3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96760" y="622440"/>
            <a:ext cx="20685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400" spc="-1" strike="noStrike">
                <a:solidFill>
                  <a:srgbClr val="ff0000"/>
                </a:solidFill>
                <a:latin typeface="Hand writing Mutlu"/>
              </a:rPr>
              <a:t>N</a:t>
            </a:r>
            <a:endParaRPr b="0" lang="en-US" sz="16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3A5D-725E-465E-A4A9-93D05397F031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6732720" y="1052640"/>
            <a:ext cx="18936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0" spc="-1" strike="noStrike">
                <a:solidFill>
                  <a:srgbClr val="3f3f3f"/>
                </a:solidFill>
                <a:latin typeface="Hand writing Mutlu"/>
              </a:rPr>
              <a:t>u</a:t>
            </a:r>
            <a:endParaRPr b="1" lang="en-US" sz="200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84 0.00509 L 0.19184 0.50312 E">
                                      <p:cBhvr>
                                        <p:cTn id="201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85549E-006 L -0.26893 0.49248 E">
                                      <p:cBhvr>
                                        <p:cTn id="205" dur="3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96760" y="622440"/>
            <a:ext cx="20685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400" spc="-1" strike="noStrike">
                <a:solidFill>
                  <a:srgbClr val="ff0000"/>
                </a:solidFill>
                <a:latin typeface="Hand writing Mutlu"/>
              </a:rPr>
              <a:t>R</a:t>
            </a:r>
            <a:endParaRPr b="0" lang="en-US" sz="16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Slayt Numarası Yer Tutucusu 5"/>
          <p:cNvSpPr/>
          <p:nvPr/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873A-BCED-4C6E-817B-9141960662E2}" type="slidenum">
              <a:rPr b="1" lang="tr-TR" sz="1200" spc="-1" strike="noStrike">
                <a:solidFill>
                  <a:srgbClr val="ffffff"/>
                </a:solidFill>
                <a:latin typeface="Hand Garde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Hand Garden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6732720" y="1052640"/>
            <a:ext cx="18936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0" spc="-1" strike="noStrike">
                <a:solidFill>
                  <a:srgbClr val="3f3f3f"/>
                </a:solidFill>
                <a:latin typeface="Hand writing Mutlu"/>
              </a:rPr>
              <a:t>u</a:t>
            </a:r>
            <a:endParaRPr b="1" lang="en-US" sz="20000" spc="-1" strike="noStrike">
              <a:solidFill>
                <a:srgbClr val="ffffff"/>
              </a:solidFill>
              <a:latin typeface="Hand Garde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84 0.00509 L 0.19184 0.50312 E">
                                      <p:cBhvr>
                                        <p:cTn id="227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9.82659E-007 L -0.26893 0.49249 E">
                                      <p:cBhvr>
                                        <p:cTn id="231" dur="3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17:14:11Z</dcterms:created>
  <dc:creator>Hanifi ERSOY</dc:creator>
  <dc:description/>
  <dc:language>en-US</dc:language>
  <cp:lastModifiedBy>BILGISAYAR</cp:lastModifiedBy>
  <dcterms:modified xsi:type="dcterms:W3CDTF">2013-01-07T21:13:43Z</dcterms:modified>
  <cp:revision>39</cp:revision>
  <dc:subject/>
  <dc:title>e</dc:title>
</cp:coreProperties>
</file>