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E52-E32C-42A3-9B6C-D5E5E02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4E7-2557-40B1-8D47-2E2F7F9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71D-1709-4D10-9A8E-3D44C599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DD9-AF61-4141-92F5-FA578591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0A5-647F-4CF0-B077-FF0F155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057-2528-4E9D-878D-3958DB9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684-47D2-41D5-B23E-E0F3C74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BF0-AF80-48BF-832E-4D0AC351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AA7-D68A-472B-9D81-8AC7E80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1F9-3101-434B-9C11-4FC8DE3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4D5-2582-4F20-AAF1-5D52440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FEF-5856-4A60-91AF-03084C7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FA7-5AF7-4B21-B6AE-C470BAACB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rl01%5B1%5D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565280" cy="2039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609480"/>
            <a:ext cx="5181480" cy="2438640"/>
          </a:xfrm>
          <a:prstGeom prst="wedgeRoundRectCallout">
            <a:avLst>
              <a:gd name="adj1" fmla="val -44976"/>
              <a:gd name="adj2" fmla="val 867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erhaba arkadaşl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04920"/>
            <a:ext cx="1676520" cy="761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116080"/>
            <a:ext cx="1752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581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2860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905120"/>
            <a:ext cx="6248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kesir sayısında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AYDA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bütünün kaç eşit parçaya bölündüğünü göster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066680"/>
            <a:ext cx="1676520" cy="76212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33526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304920"/>
            <a:ext cx="1676520" cy="761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116080"/>
            <a:ext cx="1752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581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2860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90512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AY: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 eşit parçalardan kaç tanesinin alındığını göster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066680"/>
            <a:ext cx="1676520" cy="76212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22860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304920"/>
            <a:ext cx="1676520" cy="761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116080"/>
            <a:ext cx="1752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8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2860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5228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 kesir, bir bütünün 2 eşit parçaya bölündüğünü ve 1 parçasının alındığını gösteri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066680"/>
            <a:ext cx="1676520" cy="76212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167652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11640"/>
            <a:ext cx="807732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1 bölü 2 kesrine aynı zamanda YARIM den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19520" y="228600"/>
            <a:ext cx="4343400" cy="144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762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Yarı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676520"/>
            <a:ext cx="4343400" cy="144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Yarı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28600"/>
            <a:ext cx="685800" cy="2895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ÜT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962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tane yarım 1 bütün ede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6668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1371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971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r bütün 4 eşit parçaya bölünmüş; 1 parçası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38480" y="22856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4419720"/>
            <a:ext cx="3124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5486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668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1371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078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rine aynı zamanda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ÇEYR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038480" y="22856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743200"/>
            <a:ext cx="99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52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242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297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 tane çeyrek, 1 yarım e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228600"/>
            <a:ext cx="24386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371600"/>
            <a:ext cx="243864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arı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76720" y="228600"/>
            <a:ext cx="12189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1371600"/>
            <a:ext cx="12189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297320"/>
            <a:ext cx="7696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eşit parçaya bölünmüş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Dörtte b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52280"/>
            <a:ext cx="609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447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10552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76720" y="228600"/>
            <a:ext cx="121896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137160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4297320"/>
            <a:ext cx="7696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eşit parçaya bölünmüş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Dörtte ik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52280"/>
            <a:ext cx="609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447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0552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57600" y="2286000"/>
            <a:ext cx="2286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76720" y="22860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28600"/>
            <a:ext cx="121932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137160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4297320"/>
            <a:ext cx="7696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eşit parçaya bölünmüş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Dörtte üç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152280"/>
            <a:ext cx="609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447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10552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2286000"/>
            <a:ext cx="2286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124080" y="990720"/>
            <a:ext cx="53352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irl01%5B1%5D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565280" cy="203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609480"/>
            <a:ext cx="5181480" cy="2438640"/>
          </a:xfrm>
          <a:prstGeom prst="wedgeRoundRectCallout">
            <a:avLst>
              <a:gd name="adj1" fmla="val -44976"/>
              <a:gd name="adj2" fmla="val 867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 kadar meyve içinde en çok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elm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ı sever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1101%5B1%5D" descr=""/>
          <p:cNvPicPr/>
          <p:nvPr/>
        </p:nvPicPr>
        <p:blipFill>
          <a:blip r:embed="rId2"/>
          <a:stretch/>
        </p:blipFill>
        <p:spPr>
          <a:xfrm>
            <a:off x="3809880" y="4911840"/>
            <a:ext cx="11955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f1103%5B1%5D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f1105%5B1%5D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32552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f1113%5B1%5D" descr=""/>
          <p:cNvPicPr/>
          <p:nvPr/>
        </p:nvPicPr>
        <p:blipFill>
          <a:blip r:embed="rId5"/>
          <a:stretch/>
        </p:blipFill>
        <p:spPr>
          <a:xfrm>
            <a:off x="498600" y="29718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f1114%5B1%5D" descr=""/>
          <p:cNvPicPr/>
          <p:nvPr/>
        </p:nvPicPr>
        <p:blipFill>
          <a:blip r:embed="rId6"/>
          <a:stretch/>
        </p:blipFill>
        <p:spPr>
          <a:xfrm>
            <a:off x="5029200" y="44956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f1118%5B1%5D" descr=""/>
          <p:cNvPicPr/>
          <p:nvPr/>
        </p:nvPicPr>
        <p:blipFill>
          <a:blip r:embed="rId7"/>
          <a:stretch/>
        </p:blipFill>
        <p:spPr>
          <a:xfrm>
            <a:off x="762120" y="914400"/>
            <a:ext cx="198108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f1120%5B1%5D" descr=""/>
          <p:cNvPicPr/>
          <p:nvPr/>
        </p:nvPicPr>
        <p:blipFill>
          <a:blip r:embed="rId8"/>
          <a:stretch/>
        </p:blipFill>
        <p:spPr>
          <a:xfrm>
            <a:off x="5334120" y="3124080"/>
            <a:ext cx="155412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f1135%5B1%5D" descr=""/>
          <p:cNvPicPr/>
          <p:nvPr/>
        </p:nvPicPr>
        <p:blipFill>
          <a:blip r:embed="rId9"/>
          <a:stretch/>
        </p:blipFill>
        <p:spPr>
          <a:xfrm>
            <a:off x="8042400" y="2286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f1132%5B1%5D" descr=""/>
          <p:cNvPicPr/>
          <p:nvPr/>
        </p:nvPicPr>
        <p:blipFill>
          <a:blip r:embed="rId10"/>
          <a:stretch/>
        </p:blipFill>
        <p:spPr>
          <a:xfrm>
            <a:off x="2362320" y="5791320"/>
            <a:ext cx="1172880" cy="879480"/>
          </a:xfrm>
          <a:prstGeom prst="rect">
            <a:avLst/>
          </a:prstGeom>
          <a:ln w="0">
            <a:noFill/>
          </a:ln>
        </p:spPr>
      </p:pic>
      <p:pic>
        <p:nvPicPr>
          <p:cNvPr id="54" name="f1138%5B1%5D" descr=""/>
          <p:cNvPicPr/>
          <p:nvPr/>
        </p:nvPicPr>
        <p:blipFill>
          <a:blip r:embed="rId11"/>
          <a:stretch/>
        </p:blipFill>
        <p:spPr>
          <a:xfrm>
            <a:off x="4724280" y="560376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f1139%5B1%5D" descr=""/>
          <p:cNvPicPr/>
          <p:nvPr/>
        </p:nvPicPr>
        <p:blipFill>
          <a:blip r:embed="rId12"/>
          <a:stretch/>
        </p:blipFill>
        <p:spPr>
          <a:xfrm>
            <a:off x="6934320" y="4952880"/>
            <a:ext cx="17064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f1141%5B1%5D" descr=""/>
          <p:cNvPicPr/>
          <p:nvPr/>
        </p:nvPicPr>
        <p:blipFill>
          <a:blip r:embed="rId13"/>
          <a:stretch/>
        </p:blipFill>
        <p:spPr>
          <a:xfrm>
            <a:off x="7315200" y="32004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f1239%5B1%5D" descr=""/>
          <p:cNvPicPr/>
          <p:nvPr/>
        </p:nvPicPr>
        <p:blipFill>
          <a:blip r:embed="rId14"/>
          <a:stretch/>
        </p:blipFill>
        <p:spPr>
          <a:xfrm>
            <a:off x="1600200" y="22510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f1240%5B1%5D" descr=""/>
          <p:cNvPicPr/>
          <p:nvPr/>
        </p:nvPicPr>
        <p:blipFill>
          <a:blip r:embed="rId15"/>
          <a:stretch/>
        </p:blipFill>
        <p:spPr>
          <a:xfrm>
            <a:off x="0" y="0"/>
            <a:ext cx="102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6720" y="22860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28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37160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37160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297320"/>
            <a:ext cx="7696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eşit parçaya bölünmüş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Dörtte dö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52280"/>
            <a:ext cx="609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447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05520" y="2286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657600" y="2286000"/>
            <a:ext cx="2286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124080" y="990720"/>
            <a:ext cx="53352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257800" y="990360"/>
            <a:ext cx="38088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76720" y="143208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43208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575080"/>
            <a:ext cx="121896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575080"/>
            <a:ext cx="1219320" cy="114300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4297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tane çeyrek 1 bütün e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355760"/>
            <a:ext cx="609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65104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1965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965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108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108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girl01%5B1%5D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565280" cy="2039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00200" y="609480"/>
            <a:ext cx="6400800" cy="2438640"/>
          </a:xfrm>
          <a:prstGeom prst="wedgeRoundRectCallout">
            <a:avLst>
              <a:gd name="adj1" fmla="val -38342"/>
              <a:gd name="adj2" fmla="val 682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Şimdi de bu kesir sayılarını sayı doğrusunda göstereli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66680" y="32004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21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3276720"/>
            <a:ext cx="1295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276720"/>
            <a:ext cx="12956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3276720"/>
            <a:ext cx="1295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276720"/>
            <a:ext cx="1295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276720"/>
            <a:ext cx="12956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2286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1 bütü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286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 bütü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286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3 bütü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22860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4 bütü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22860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 bütü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YI DOĞRU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0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Şimdi;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 bütü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ü eşit parçalara böleli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828440" y="3505320"/>
            <a:ext cx="228600" cy="1371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2120" y="373392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6840" y="37339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380988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8892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kadaşlar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rasındaki büyüklük,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 bütü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ür. Bu bütünü eşit parçalara böldüğümüzde her parça bir kesir sayısını gösterir. Yani, kesir sayıları sayı doğrusund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rasındad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380988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5820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96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8132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Şimdi; 1 bütünü 4 eşit parçaya bölel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81916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33526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5684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42900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342900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5820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296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şit parçaya bölünmüş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523880" y="365724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3352680"/>
            <a:ext cx="838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62120" y="33526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5684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42900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342900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şit parçaya bölünmüş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5909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3352680"/>
            <a:ext cx="838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2133720"/>
            <a:ext cx="38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3352680"/>
            <a:ext cx="99036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2120" y="33526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5684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342900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342900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şit parçaya bölünmüş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3657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3352680"/>
            <a:ext cx="838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2133720"/>
            <a:ext cx="38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3352680"/>
            <a:ext cx="99036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352680"/>
            <a:ext cx="9907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33526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5684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342900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342900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r bütü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şit parçaya bölünmüş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çası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971800" y="36576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3352680"/>
            <a:ext cx="838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2133720"/>
            <a:ext cx="38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76520" y="3352680"/>
            <a:ext cx="99036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3352680"/>
            <a:ext cx="9907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34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352680"/>
            <a:ext cx="9907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a8"/>
            </a:gs>
            <a:gs pos="50000">
              <a:srgbClr val="00ffff"/>
            </a:gs>
            <a:gs pos="100000">
              <a:srgbClr val="00a8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2120" y="33526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5684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3429000"/>
            <a:ext cx="3810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3429000"/>
            <a:ext cx="38098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5820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296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Çeyr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0720" y="12952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688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31240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3352680"/>
            <a:ext cx="83844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2133720"/>
            <a:ext cx="38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3352680"/>
            <a:ext cx="99036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3352680"/>
            <a:ext cx="9907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21337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2666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3352680"/>
            <a:ext cx="9907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57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arı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609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ütü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666520" y="1219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48320" y="1219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irl01%5B1%5D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565280" cy="2039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609480"/>
            <a:ext cx="5638680" cy="2438640"/>
          </a:xfrm>
          <a:prstGeom prst="wedgeRoundRectCallout">
            <a:avLst>
              <a:gd name="adj1" fmla="val -45384"/>
              <a:gd name="adj2" fmla="val 867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r gün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bütü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elma yeri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1118%5B1%5D" descr=""/>
          <p:cNvPicPr/>
          <p:nvPr/>
        </p:nvPicPr>
        <p:blipFill>
          <a:blip r:embed="rId2"/>
          <a:stretch/>
        </p:blipFill>
        <p:spPr>
          <a:xfrm>
            <a:off x="4343400" y="343224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irl01%5B1%5D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1857600" cy="2421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80880" y="152280"/>
            <a:ext cx="8305920" cy="2057400"/>
          </a:xfrm>
          <a:prstGeom prst="wedgeRoundRectCallout">
            <a:avLst>
              <a:gd name="adj1" fmla="val -8694"/>
              <a:gd name="adj2" fmla="val 144134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nim anlatacaklarım bitti. Bol bol meyve yemeyi ve öğrendiklerinizi tekrar etmeyi unutmayını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şça kalı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A013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2751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irl01%5B1%5D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1974960" cy="257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19520" y="609480"/>
            <a:ext cx="5638680" cy="2438640"/>
          </a:xfrm>
          <a:prstGeom prst="wedgeRoundRectCallout">
            <a:avLst>
              <a:gd name="adj1" fmla="val -45384"/>
              <a:gd name="adj2" fmla="val 867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zen de 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yarım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elma yeri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1120%5B1%5D" descr=""/>
          <p:cNvPicPr/>
          <p:nvPr/>
        </p:nvPicPr>
        <p:blipFill>
          <a:blip r:embed="rId2"/>
          <a:stretch/>
        </p:blipFill>
        <p:spPr>
          <a:xfrm>
            <a:off x="4389480" y="3505320"/>
            <a:ext cx="4221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irl01%5B1%5D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1974960" cy="257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9480"/>
            <a:ext cx="7848360" cy="2438640"/>
          </a:xfrm>
          <a:prstGeom prst="wedgeRoundRectCallout">
            <a:avLst>
              <a:gd name="adj1" fmla="val -35236"/>
              <a:gd name="adj2" fmla="val 740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ugün; bütün, yarım, çeyrek kavramlarını ve KESİR SAYILARINI öğreneceğ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kanıza yaslanın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120%5B1%5D" descr=""/>
          <p:cNvPicPr/>
          <p:nvPr/>
        </p:nvPicPr>
        <p:blipFill>
          <a:blip r:embed="rId2"/>
          <a:stretch/>
        </p:blipFill>
        <p:spPr>
          <a:xfrm>
            <a:off x="4389480" y="3505320"/>
            <a:ext cx="4221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86200" y="457200"/>
            <a:ext cx="838080" cy="83808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57200"/>
            <a:ext cx="838440" cy="838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295280"/>
            <a:ext cx="838080" cy="838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295280"/>
            <a:ext cx="838440" cy="838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6668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r bütünü eşit parçalara bölüp bu parçalardan birinin veya bir kaçının sayı ile gösterilmesin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ESİR SAYIS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den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886200"/>
            <a:ext cx="22860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28600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r bütün 2 eşit parçaya bölünmü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720" y="2895480"/>
            <a:ext cx="21333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419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1 parçası alınmı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33520"/>
            <a:ext cx="2438280" cy="2286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362320" y="1828440"/>
            <a:ext cx="1828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5627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Şimdi bunu kesir sayısı olarak gösterel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105520"/>
            <a:ext cx="2286000" cy="121896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90920" y="4952880"/>
            <a:ext cx="1676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1828800"/>
            <a:ext cx="22860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048120"/>
            <a:ext cx="2286000" cy="121896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133720"/>
            <a:ext cx="17528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200400"/>
            <a:ext cx="849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90920" y="289548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1981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 parçalardan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anesi alınmı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0543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r bütün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şit parçaya bölünmüş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6560" y="2514600"/>
            <a:ext cx="6094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572000" y="4266720"/>
            <a:ext cx="53352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girl01%5B1%5D" descr=""/>
          <p:cNvPicPr/>
          <p:nvPr/>
        </p:nvPicPr>
        <p:blipFill>
          <a:blip r:embed="rId1"/>
          <a:stretch/>
        </p:blipFill>
        <p:spPr>
          <a:xfrm>
            <a:off x="7832880" y="76320"/>
            <a:ext cx="122868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04920"/>
            <a:ext cx="1676520" cy="761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116080"/>
            <a:ext cx="1752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581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2860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1337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4640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ay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066680"/>
            <a:ext cx="1676520" cy="762120"/>
          </a:xfrm>
          <a:prstGeom prst="rect">
            <a:avLst/>
          </a:prstGeom>
          <a:solidFill>
            <a:srgbClr val="ff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21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sir Çizg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09320" y="243828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286000" y="464796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133720" y="35812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10080"/>
            <a:ext cx="83818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u kesir sayısı, “</a:t>
            </a: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bir bölü iki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” ya da “</a:t>
            </a: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ikide bir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” şeklinde okun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20:13:10Z</dcterms:created>
  <dc:creator>Hüseyin ÖZTÜRK</dc:creator>
  <dc:description/>
  <dc:language>en-US</dc:language>
  <cp:lastModifiedBy>Hüseyin ÖZTÜRK</cp:lastModifiedBy>
  <dcterms:modified xsi:type="dcterms:W3CDTF">2004-12-12T22:55:29Z</dcterms:modified>
  <cp:revision>22</cp:revision>
  <dc:subject/>
  <dc:title>PowerPoint Sunusu</dc:title>
</cp:coreProperties>
</file>